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tif" ContentType="image/tiff"/>
  <Override PartName="/ppt/media/image6.png" ContentType="image/png"/>
  <Override PartName="/ppt/media/image7.jpeg" ContentType="image/jpeg"/>
  <Override PartName="/ppt/media/image11.png" ContentType="image/png"/>
  <Override PartName="/ppt/media/image4.wmf" ContentType="image/x-wmf"/>
  <Override PartName="/ppt/media/image14.jpeg" ContentType="image/jpe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074-E288-4796-B40A-5777C796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4BC-EEC7-4C1F-92D0-18214D2F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AE92C-243F-422C-898D-8099755D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644AC-F2DF-4FB7-84B4-B0005102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0FC62-A623-4265-88BD-86CC3CEB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F3516-D90E-48DE-AB57-80676E35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9CC50-3528-426A-837B-7C7C6384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BCD72-24F2-454B-B747-CCD7F908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72233-9409-4D91-9373-14877B98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FADD9-3753-4259-9388-097F56BD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920D4-20F7-4828-A209-DDAF256E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A68A0-4BEF-4234-8F8C-E3888D51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8EA-45D8-4E71-B25C-40499EAD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4AA05-2154-4872-B3CF-ACF05002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2E1CB-E09B-4258-B68D-053F68E4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9413D-42E1-4981-8509-4ACA94E0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7E26B-4EC9-443B-9522-802B993C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A54D8-3E03-449D-A8FD-E885EBB3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FE221-0C85-4192-8233-57C3AC51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7BCB7-ADE6-4BA0-88DF-6943FFC1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67357-4DD7-4D2D-8E4A-CE5D8882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6C845-F6C2-40D1-A47F-B0D476D8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1756C-0FD0-484B-9F63-A35E8D66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569-63BD-47BD-A66E-399B6B76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893EA-F374-4ACD-8C34-8AC7CAD6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E65E9-A5A9-473C-88FF-63549064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4F302-FD1F-4A0A-B9A4-65BA5FA4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8A59C-4FB2-4BF0-BA09-3514EDBD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72B8A-1D9E-4B75-8CD6-4A1917B1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E50F5-717F-4530-B010-FBAE78A0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FFA0C-DD84-4E0F-9035-0CE8D817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DA7DC-A1A8-4BA0-8AC1-91A2C26D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31BE9-759C-4ABA-A986-7844C71E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ECEEA-EC2C-4D67-83DE-ED1AD415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79A7-316A-4E06-8271-3BC7F278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DDD1F-D16E-46AA-9E8E-21477BB1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54D4D-26C2-4650-9998-1E2749A7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B8C41-D774-4A6E-952B-2A41F6A1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9DF4F-3913-4C3E-BFB3-FD37B931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C0864-E210-4417-919F-9B3CA970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ABD1D-07A1-43A2-B48B-3A9AF4A1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DD544-90F2-46B9-8A19-47344C8A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30D7D-0BE1-4520-8D35-2AD1E5B5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97B86-1502-42EE-A545-13A7D879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DF6CB-4EC7-464F-A7C7-4EBE8267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A9B2-9C37-402C-9ACF-657F3259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6E67C-D4F1-4829-9049-7A099392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D9702-F46F-4528-A131-01715D7A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E3BD0-D881-4026-9D53-82C46375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7137D-937C-41DA-A527-0BDD4E81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9D808-D023-4EDB-A038-A3137DE2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584A-3681-4115-ADFD-0F969A02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4A77-FC1F-4658-8296-43A6284B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43ED-2475-47ED-B111-79BF3C11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F804-F363-4669-BD63-7C0F0DA4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8DEB-8C09-4287-95E5-2197320B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8039-B349-4B8C-8E58-9E4AC2B0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1054-E487-4C9D-B07E-55F60909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F362-F031-4DF4-97D0-32A74388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FCF4-A55D-42BF-87D5-5E145331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6491-FFB7-422E-A4F0-FA7E72A6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5F48-6A1B-4F57-83EF-DA997052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C4EA0-74F9-4DC3-AE53-1D55738D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D1105-22F5-4DFC-A883-B66F5061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F36A8-70AC-4465-8B97-8E9E5F88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A342D-1729-4CF7-8B8B-01704EF4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C2EEF-199B-4FCE-81E9-5ABA44C2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8670-351F-4286-93BF-0DC18DB5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054EB-C532-40BA-A405-DFDD56D2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740D7-5676-4F42-8732-06664C6B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12F4F-849C-4A6E-B652-E1888503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4A0BD-C086-4B1F-8341-F4D6806D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86860-7B25-41BA-A36F-39D0C85E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4FD36-1DA1-4B12-8B9C-C382F564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781B3-A32D-4265-BC65-E54CF656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27554-C77F-4F5F-90C4-157331A1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BD82E-D593-4E6C-945C-40D5AFCD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9FF16-458E-48D2-98A0-434B16CF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9A68-C9E0-435E-9C10-5D939319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D530D-B4D7-4AD8-A74D-87E52169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9EE93-1795-4C8E-BD19-B8616F0D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CE637-7504-4FD7-BC0D-0A04A170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C57D4-21CF-4892-84A1-B767F0A1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D5F08-1652-4A56-9E76-0E23CF00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B4F25-235F-4726-93FA-E86F3B0D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E0F19-1BED-4300-A8BB-BE1D8A7A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EC355-B593-4AA5-B93B-9DE5EEA4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B881F-14AC-4314-93A9-A0032D27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6A0C7-6190-4174-8C72-3B1DCFC8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9CEB-42F0-4A2D-B74C-5C25DCDF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35850-368E-4A10-A4E4-B38702B5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BF3D6-661B-4233-8ED5-F7A31B39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0725C-2BBF-42ED-B4DE-9C7C7A00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76F2B-CE7F-4FB6-A885-3932E5A5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A0EF2-C586-47C5-A35E-FC5003D3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7C75F-937A-4D6B-A626-8527296C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54999-F264-4C5B-ADFF-0161FB8A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EA3C3-C685-4CEF-9559-79B363C7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3B1CA-5207-451F-A8D8-16B283E8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5BA10-E376-4D47-A850-808B062A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FB9D-6190-4750-8D06-11F0BF68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7266C-DB37-4731-B94F-FABFB5EA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C7214-E607-4FD5-AACA-B6C82A5E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514E0-C4D2-458C-8764-2B726919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01129-134C-4AB7-97AF-E62A167F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41843-6C35-4969-A496-BB6FA228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20B6D-EDB4-473D-A735-317DB798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3F96A-E9F3-443C-BDEC-47681011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97D51-91E4-4EE7-947A-09B98C08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B1F48-5B0F-4DF9-A813-24488C45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BA2F6-8C33-4FDC-85A0-0AB8BEB0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9D07-AA92-4B5E-8C51-77134C22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9E014-C70F-47B3-9B62-919D0E4A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39363-6398-4113-B23F-D9757652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E7A74-2E22-4565-8252-4044CE3E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1CCE6-F714-41EE-867F-DCBB676F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1D5E9-815B-4633-AC3C-5F3E3955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BC1FA-8354-44BB-A052-3E68F37C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B179F-2AC2-4410-B172-15212A5D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D0458-097F-430B-8DBB-58480D08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3E2D3-58A4-4F45-B658-67021134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BA533-6C74-4652-B679-761BF944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367C-1B97-4596-923A-5898A691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457FB-7537-4FD6-9994-B4D37460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FF535-28D9-470F-A50F-D1CDCAE9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A8651-8C82-4F38-B851-9219C887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2BCF0-20D0-4D63-9B22-1FB2FD26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65D3F-2695-422F-AECD-FB614619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68B58-54E8-4C34-B233-0724C1EA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2B76D-31B4-48E7-A1C8-EB54EB82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140D6-4AA0-4D5F-A344-D0924396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2DE5B-49DE-4BA6-AB76-79B5BD02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DBDD3-7DD5-4AB4-9C06-23F40F32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E16-EAB0-4C85-883A-1CD8D670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00999-BF80-4D63-AFCF-962CD89B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8B4A3-6652-44D6-9EE7-DB4C474C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5F26E-1E4E-4C02-AF40-78CD33CB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B1FA4-0D5B-4EBA-92C6-2875B8A0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790BB-37F1-4FE0-AB09-F154C199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EB865-3D9B-4F53-895F-EAC65BE2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A96FF-2359-4D7A-9217-69CB5F27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0D7E7-C16C-4F0E-AE8E-C8C3CFC0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ABAA1-6AAD-4444-AF14-2229BA8E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6589C-E5F5-41D3-8182-CDDD76C9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t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963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6963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6963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椭圆 6963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椭圆 6963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椭圆 6963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椭圆 6963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8B9D-80AB-4C66-8BB4-FFF44F0B1F7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2FFB-7D12-4D84-A799-413CEA8B8AC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8F2B-805C-4327-881D-9FD789B50AE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7442-30EE-44BC-8DCF-1F74B58822F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7065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7065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椭圆 7065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椭圆 7066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椭圆 7066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椭圆 7066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椭圆 7066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图片 1" descr="学练优LOGO"/>
          <p:cNvPicPr/>
          <p:nvPr/>
        </p:nvPicPr>
        <p:blipFill>
          <a:blip r:embed="rId2"/>
          <a:stretch/>
        </p:blipFill>
        <p:spPr>
          <a:xfrm>
            <a:off x="7599240" y="20520"/>
            <a:ext cx="1462320" cy="520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6FDB-B51F-41C1-8FEA-0368FC2577E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85F2-4EE3-4A9D-85C9-906A9150ACE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620E-6513-4300-B287-E91C0945A15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73CF-12D9-4B1F-9C34-D641F64F4DD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798E-7C7D-40CC-B2B3-C01C8BDBA2B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C58A-EB5E-4345-9EBB-F6E043BBB07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7260-2BEA-470D-841D-7C0029C565E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1DC3-A2F8-40E8-8119-2927ED32A48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王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TextBox 3"/>
          <p:cNvSpPr/>
          <p:nvPr/>
        </p:nvSpPr>
        <p:spPr>
          <a:xfrm>
            <a:off x="1806480" y="316080"/>
            <a:ext cx="57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汉语拼音  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FR2068"/>
          <p:cNvPicPr/>
          <p:nvPr/>
        </p:nvPicPr>
        <p:blipFill>
          <a:blip r:embed="rId1"/>
          <a:srcRect l="0" t="0" r="0" b="51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3"/>
          <p:cNvSpPr/>
          <p:nvPr/>
        </p:nvSpPr>
        <p:spPr>
          <a:xfrm>
            <a:off x="1389240" y="865080"/>
            <a:ext cx="61610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宋体"/>
              </a:rPr>
              <a:t>bǎ bò bǔ bà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cc"/>
                </a:solidFill>
                <a:latin typeface="宋体"/>
              </a:rPr>
              <a:t>bó bō bǐ bī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9900cc"/>
                </a:solidFill>
                <a:latin typeface="宋体"/>
              </a:rPr>
              <a:t>bǒ bì bá bū</a:t>
            </a:r>
            <a:r>
              <a:rPr b="1" lang="en-US" sz="65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8000"/>
                </a:solidFill>
                <a:latin typeface="宋体"/>
              </a:rPr>
              <a:t>bú bā bí bù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6320520" y="2177280"/>
            <a:ext cx="10947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99"/>
                </a:solidFill>
                <a:latin typeface="Times New Roman"/>
                <a:ea typeface="华文新魏"/>
              </a:rPr>
              <a:t>读一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30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3000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3000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3000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"/>
          <p:cNvGrpSpPr/>
          <p:nvPr/>
        </p:nvGrpSpPr>
        <p:grpSpPr>
          <a:xfrm>
            <a:off x="0" y="655560"/>
            <a:ext cx="9144000" cy="360"/>
            <a:chOff x="0" y="655560"/>
            <a:chExt cx="9144000" cy="360"/>
          </a:xfrm>
        </p:grpSpPr>
        <p:sp>
          <p:nvSpPr>
            <p:cNvPr id="643" name="Line 4"/>
            <p:cNvSpPr/>
            <p:nvPr/>
          </p:nvSpPr>
          <p:spPr>
            <a:xfrm>
              <a:off x="0" y="65556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 txBox="1"/>
            <p:nvPr/>
          </p:nvSpPr>
          <p:spPr>
            <a:xfrm>
              <a:off x="0" y="6555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0" y="2104920"/>
            <a:ext cx="9144000" cy="360"/>
            <a:chOff x="0" y="2104920"/>
            <a:chExt cx="9144000" cy="360"/>
          </a:xfrm>
        </p:grpSpPr>
        <p:sp>
          <p:nvSpPr>
            <p:cNvPr id="646" name="Line 5"/>
            <p:cNvSpPr/>
            <p:nvPr/>
          </p:nvSpPr>
          <p:spPr>
            <a:xfrm>
              <a:off x="0" y="210492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 txBox="1"/>
            <p:nvPr/>
          </p:nvSpPr>
          <p:spPr>
            <a:xfrm>
              <a:off x="0" y="21049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0" y="1374840"/>
            <a:ext cx="9144000" cy="360"/>
            <a:chOff x="0" y="1374840"/>
            <a:chExt cx="9144000" cy="360"/>
          </a:xfrm>
        </p:grpSpPr>
        <p:sp>
          <p:nvSpPr>
            <p:cNvPr id="649" name="Line 6"/>
            <p:cNvSpPr/>
            <p:nvPr/>
          </p:nvSpPr>
          <p:spPr>
            <a:xfrm>
              <a:off x="0" y="137484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 txBox="1"/>
            <p:nvPr/>
          </p:nvSpPr>
          <p:spPr>
            <a:xfrm>
              <a:off x="0" y="13748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0" y="2830680"/>
            <a:ext cx="9144000" cy="360"/>
            <a:chOff x="0" y="2830680"/>
            <a:chExt cx="9144000" cy="360"/>
          </a:xfrm>
        </p:grpSpPr>
        <p:sp>
          <p:nvSpPr>
            <p:cNvPr id="652" name="Line 10"/>
            <p:cNvSpPr/>
            <p:nvPr/>
          </p:nvSpPr>
          <p:spPr>
            <a:xfrm>
              <a:off x="0" y="283068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 txBox="1"/>
            <p:nvPr/>
          </p:nvSpPr>
          <p:spPr>
            <a:xfrm>
              <a:off x="0" y="28306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Rectangle 11"/>
          <p:cNvSpPr/>
          <p:nvPr/>
        </p:nvSpPr>
        <p:spPr>
          <a:xfrm>
            <a:off x="0" y="419040"/>
            <a:ext cx="914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ff"/>
                </a:solidFill>
                <a:latin typeface="宋体"/>
              </a:rPr>
              <a:t>bǎ bò bǔ bà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0" y="5486400"/>
            <a:ext cx="9144000" cy="360"/>
            <a:chOff x="0" y="5486400"/>
            <a:chExt cx="9144000" cy="360"/>
          </a:xfrm>
        </p:grpSpPr>
        <p:sp>
          <p:nvSpPr>
            <p:cNvPr id="656" name="Line 12"/>
            <p:cNvSpPr/>
            <p:nvPr/>
          </p:nvSpPr>
          <p:spPr>
            <a:xfrm>
              <a:off x="0" y="548640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 txBox="1"/>
            <p:nvPr/>
          </p:nvSpPr>
          <p:spPr>
            <a:xfrm>
              <a:off x="0" y="54864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0" y="6261120"/>
            <a:ext cx="9144000" cy="360"/>
            <a:chOff x="0" y="6261120"/>
            <a:chExt cx="9144000" cy="360"/>
          </a:xfrm>
        </p:grpSpPr>
        <p:sp>
          <p:nvSpPr>
            <p:cNvPr id="659" name="Line 13"/>
            <p:cNvSpPr/>
            <p:nvPr/>
          </p:nvSpPr>
          <p:spPr>
            <a:xfrm>
              <a:off x="0" y="626112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 txBox="1"/>
            <p:nvPr/>
          </p:nvSpPr>
          <p:spPr>
            <a:xfrm>
              <a:off x="0" y="62611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0" y="4764240"/>
            <a:ext cx="9144000" cy="360"/>
            <a:chOff x="0" y="4764240"/>
            <a:chExt cx="9144000" cy="360"/>
          </a:xfrm>
        </p:grpSpPr>
        <p:sp>
          <p:nvSpPr>
            <p:cNvPr id="662" name="Line 14"/>
            <p:cNvSpPr/>
            <p:nvPr/>
          </p:nvSpPr>
          <p:spPr>
            <a:xfrm>
              <a:off x="0" y="476424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 txBox="1"/>
            <p:nvPr/>
          </p:nvSpPr>
          <p:spPr>
            <a:xfrm>
              <a:off x="0" y="47642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0" y="4000680"/>
            <a:ext cx="9144000" cy="360"/>
            <a:chOff x="0" y="4000680"/>
            <a:chExt cx="9144000" cy="360"/>
          </a:xfrm>
        </p:grpSpPr>
        <p:sp>
          <p:nvSpPr>
            <p:cNvPr id="665" name="Line 15"/>
            <p:cNvSpPr/>
            <p:nvPr/>
          </p:nvSpPr>
          <p:spPr>
            <a:xfrm>
              <a:off x="0" y="400068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 txBox="1"/>
            <p:nvPr/>
          </p:nvSpPr>
          <p:spPr>
            <a:xfrm>
              <a:off x="0" y="40006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Rectangle 9"/>
          <p:cNvSpPr/>
          <p:nvPr/>
        </p:nvSpPr>
        <p:spPr>
          <a:xfrm>
            <a:off x="0" y="3814920"/>
            <a:ext cx="914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ff"/>
                </a:solidFill>
                <a:latin typeface="宋体"/>
              </a:rPr>
              <a:t>bú bā bí bù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5"/>
          <p:cNvSpPr/>
          <p:nvPr/>
        </p:nvSpPr>
        <p:spPr>
          <a:xfrm>
            <a:off x="4915080" y="352440"/>
            <a:ext cx="422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宋体"/>
              </a:rPr>
              <a:t>shān p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4836960" y="1460520"/>
            <a:ext cx="39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7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山     坡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8"/>
          <p:cNvSpPr/>
          <p:nvPr/>
        </p:nvSpPr>
        <p:spPr>
          <a:xfrm>
            <a:off x="5165640" y="2940120"/>
            <a:ext cx="137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9"/>
          <p:cNvSpPr/>
          <p:nvPr/>
        </p:nvSpPr>
        <p:spPr>
          <a:xfrm>
            <a:off x="6867360" y="2933640"/>
            <a:ext cx="90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10"/>
          <p:cNvSpPr/>
          <p:nvPr/>
        </p:nvSpPr>
        <p:spPr>
          <a:xfrm>
            <a:off x="7773840" y="2987640"/>
            <a:ext cx="99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6502320" y="3730680"/>
            <a:ext cx="378000" cy="14400"/>
            <a:chOff x="6502320" y="3730680"/>
            <a:chExt cx="378000" cy="14400"/>
          </a:xfrm>
        </p:grpSpPr>
        <p:sp>
          <p:nvSpPr>
            <p:cNvPr id="674" name="Line 11"/>
            <p:cNvSpPr/>
            <p:nvPr/>
          </p:nvSpPr>
          <p:spPr>
            <a:xfrm>
              <a:off x="6502320" y="3730680"/>
              <a:ext cx="378000" cy="1440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6502320" y="3730680"/>
              <a:ext cx="378000" cy="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7548480" y="3687840"/>
            <a:ext cx="290520" cy="360"/>
            <a:chOff x="7548480" y="3687840"/>
            <a:chExt cx="290520" cy="360"/>
          </a:xfrm>
        </p:grpSpPr>
        <p:sp>
          <p:nvSpPr>
            <p:cNvPr id="677" name="Line 12"/>
            <p:cNvSpPr/>
            <p:nvPr/>
          </p:nvSpPr>
          <p:spPr>
            <a:xfrm>
              <a:off x="7548480" y="3687840"/>
              <a:ext cx="29052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 txBox="1"/>
            <p:nvPr/>
          </p:nvSpPr>
          <p:spPr>
            <a:xfrm>
              <a:off x="7548480" y="3687840"/>
              <a:ext cx="290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9" name="Picture 3" descr="拼音4"/>
          <p:cNvPicPr/>
          <p:nvPr/>
        </p:nvPicPr>
        <p:blipFill>
          <a:blip r:embed="rId1"/>
          <a:srcRect l="50229" t="5505" r="17263" b="76462"/>
          <a:stretch/>
        </p:blipFill>
        <p:spPr>
          <a:xfrm>
            <a:off x="15840" y="1932120"/>
            <a:ext cx="6121440" cy="39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3" descr="拼音4"/>
          <p:cNvPicPr/>
          <p:nvPr/>
        </p:nvPicPr>
        <p:blipFill>
          <a:blip r:embed="rId1"/>
          <a:srcRect l="50229" t="5473" r="17518" b="76462"/>
          <a:stretch/>
        </p:blipFill>
        <p:spPr>
          <a:xfrm>
            <a:off x="0" y="2114640"/>
            <a:ext cx="6073920" cy="3978360"/>
          </a:xfrm>
          <a:prstGeom prst="rect">
            <a:avLst/>
          </a:prstGeom>
          <a:ln w="0">
            <a:noFill/>
          </a:ln>
        </p:spPr>
      </p:pic>
      <p:sp>
        <p:nvSpPr>
          <p:cNvPr id="681" name="WordArt 4"/>
          <p:cNvSpPr txBox="1"/>
          <p:nvPr/>
        </p:nvSpPr>
        <p:spPr>
          <a:xfrm>
            <a:off x="6073920" y="1150920"/>
            <a:ext cx="2309760" cy="30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Arial"/>
              </a:rPr>
              <a:t>p</a:t>
            </a:r>
            <a:endParaRPr b="0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82" name="WordArt 5"/>
          <p:cNvSpPr txBox="1"/>
          <p:nvPr/>
        </p:nvSpPr>
        <p:spPr>
          <a:xfrm rot="20074800">
            <a:off x="1515960" y="2190600"/>
            <a:ext cx="1076400" cy="14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Arial"/>
              </a:rPr>
              <a:t>p</a:t>
            </a:r>
            <a:endParaRPr b="0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"/>
          <p:cNvGrpSpPr/>
          <p:nvPr/>
        </p:nvGrpSpPr>
        <p:grpSpPr>
          <a:xfrm>
            <a:off x="0" y="2278080"/>
            <a:ext cx="9144000" cy="360"/>
            <a:chOff x="0" y="2278080"/>
            <a:chExt cx="9144000" cy="360"/>
          </a:xfrm>
        </p:grpSpPr>
        <p:sp>
          <p:nvSpPr>
            <p:cNvPr id="684" name="Line 2"/>
            <p:cNvSpPr/>
            <p:nvPr/>
          </p:nvSpPr>
          <p:spPr>
            <a:xfrm>
              <a:off x="0" y="227808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 txBox="1"/>
            <p:nvPr/>
          </p:nvSpPr>
          <p:spPr>
            <a:xfrm>
              <a:off x="0" y="22780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0" y="4500720"/>
            <a:ext cx="9144000" cy="360"/>
            <a:chOff x="0" y="4500720"/>
            <a:chExt cx="9144000" cy="360"/>
          </a:xfrm>
        </p:grpSpPr>
        <p:sp>
          <p:nvSpPr>
            <p:cNvPr id="687" name="Line 3"/>
            <p:cNvSpPr/>
            <p:nvPr/>
          </p:nvSpPr>
          <p:spPr>
            <a:xfrm>
              <a:off x="0" y="450072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 txBox="1"/>
            <p:nvPr/>
          </p:nvSpPr>
          <p:spPr>
            <a:xfrm>
              <a:off x="0" y="4500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0" y="458640"/>
            <a:ext cx="9144000" cy="360"/>
            <a:chOff x="0" y="458640"/>
            <a:chExt cx="9144000" cy="360"/>
          </a:xfrm>
        </p:grpSpPr>
        <p:sp>
          <p:nvSpPr>
            <p:cNvPr id="690" name="Line 4"/>
            <p:cNvSpPr/>
            <p:nvPr/>
          </p:nvSpPr>
          <p:spPr>
            <a:xfrm>
              <a:off x="0" y="45864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0" y="458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0" y="6494400"/>
            <a:ext cx="9144000" cy="360"/>
            <a:chOff x="0" y="6494400"/>
            <a:chExt cx="9144000" cy="360"/>
          </a:xfrm>
        </p:grpSpPr>
        <p:sp>
          <p:nvSpPr>
            <p:cNvPr id="693" name="Line 5"/>
            <p:cNvSpPr/>
            <p:nvPr/>
          </p:nvSpPr>
          <p:spPr>
            <a:xfrm>
              <a:off x="0" y="649440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 txBox="1"/>
            <p:nvPr/>
          </p:nvSpPr>
          <p:spPr>
            <a:xfrm>
              <a:off x="0" y="64944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WordArt 6"/>
          <p:cNvSpPr txBox="1"/>
          <p:nvPr/>
        </p:nvSpPr>
        <p:spPr>
          <a:xfrm>
            <a:off x="3708360" y="2282760"/>
            <a:ext cx="2309760" cy="30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Arial"/>
              </a:rPr>
              <a:t>p</a:t>
            </a:r>
            <a:endParaRPr b="0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17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3"/>
          <p:cNvSpPr/>
          <p:nvPr/>
        </p:nvSpPr>
        <p:spPr>
          <a:xfrm>
            <a:off x="2274840" y="306720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pū pú pǔ pù </a:t>
            </a: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2427120" y="32400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Comic Sans MS"/>
              </a:rPr>
              <a:t>pā pá pǎ p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2503440" y="1238400"/>
            <a:ext cx="516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9d8ec"/>
                </a:solidFill>
                <a:latin typeface="Comic Sans MS"/>
              </a:rPr>
              <a:t>pō pó pǒ p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9"/>
          <p:cNvSpPr/>
          <p:nvPr/>
        </p:nvSpPr>
        <p:spPr>
          <a:xfrm>
            <a:off x="2579760" y="215280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Comic Sans MS"/>
              </a:rPr>
              <a:t>pī pí pǐ p</a:t>
            </a:r>
            <a:r>
              <a:rPr b="0" lang="en-US" sz="6000" spc="-1" strike="noStrike">
                <a:solidFill>
                  <a:srgbClr val="ff0066"/>
                </a:solidFill>
                <a:latin typeface="Comic Sans MS"/>
              </a:rPr>
              <a:t>ì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3"/>
          <p:cNvSpPr/>
          <p:nvPr/>
        </p:nvSpPr>
        <p:spPr>
          <a:xfrm>
            <a:off x="1360440" y="247680"/>
            <a:ext cx="144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p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14"/>
          <p:cNvSpPr/>
          <p:nvPr/>
        </p:nvSpPr>
        <p:spPr>
          <a:xfrm>
            <a:off x="1360440" y="1162080"/>
            <a:ext cx="19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p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5"/>
          <p:cNvSpPr/>
          <p:nvPr/>
        </p:nvSpPr>
        <p:spPr>
          <a:xfrm>
            <a:off x="1360440" y="2152800"/>
            <a:ext cx="152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p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16"/>
          <p:cNvSpPr/>
          <p:nvPr/>
        </p:nvSpPr>
        <p:spPr>
          <a:xfrm>
            <a:off x="1360440" y="306720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pu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8"/>
          <p:cNvSpPr/>
          <p:nvPr/>
        </p:nvSpPr>
        <p:spPr>
          <a:xfrm>
            <a:off x="7368120" y="1570680"/>
            <a:ext cx="10947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99"/>
                </a:solidFill>
                <a:latin typeface="Times New Roman"/>
                <a:ea typeface="华文新魏"/>
              </a:rPr>
              <a:t>读一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11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3"/>
          <p:cNvSpPr/>
          <p:nvPr/>
        </p:nvSpPr>
        <p:spPr>
          <a:xfrm>
            <a:off x="2362320" y="342900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6"/>
          <p:cNvSpPr/>
          <p:nvPr/>
        </p:nvSpPr>
        <p:spPr>
          <a:xfrm>
            <a:off x="334800" y="0"/>
            <a:ext cx="8061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宋体"/>
              </a:rPr>
              <a:t>pǐ  pō  pū  pǎ</a:t>
            </a:r>
            <a:r>
              <a:rPr b="0" lang="en-US" sz="80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宋体"/>
              </a:rPr>
              <a:t>pī  pà  pó  pú</a:t>
            </a:r>
            <a:r>
              <a:rPr b="0" lang="en-US" sz="80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000"/>
                </a:solidFill>
                <a:latin typeface="宋体"/>
              </a:rPr>
              <a:t>pò  pā  pù  pí</a:t>
            </a:r>
            <a:r>
              <a:rPr b="0" lang="en-US" sz="8000" spc="-1" strike="noStrike">
                <a:solidFill>
                  <a:srgbClr val="cc0000"/>
                </a:solidFill>
                <a:latin typeface="宋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cc"/>
                </a:solidFill>
                <a:latin typeface="宋体"/>
              </a:rPr>
              <a:t>pá  pǒ  pǔ  pì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2"/>
          <p:cNvSpPr/>
          <p:nvPr/>
        </p:nvSpPr>
        <p:spPr>
          <a:xfrm>
            <a:off x="7814160" y="2139120"/>
            <a:ext cx="10947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99"/>
                </a:solidFill>
                <a:latin typeface="Times New Roman"/>
                <a:ea typeface="华文新魏"/>
              </a:rPr>
              <a:t>读一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50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1" dur="5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500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0" y="766800"/>
            <a:ext cx="9144000" cy="360"/>
            <a:chOff x="0" y="766800"/>
            <a:chExt cx="9144000" cy="360"/>
          </a:xfrm>
        </p:grpSpPr>
        <p:sp>
          <p:nvSpPr>
            <p:cNvPr id="711" name="Line 2"/>
            <p:cNvSpPr/>
            <p:nvPr/>
          </p:nvSpPr>
          <p:spPr>
            <a:xfrm>
              <a:off x="0" y="76680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 txBox="1"/>
            <p:nvPr/>
          </p:nvSpPr>
          <p:spPr>
            <a:xfrm>
              <a:off x="0" y="7668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0" y="2182680"/>
            <a:ext cx="9144000" cy="360"/>
            <a:chOff x="0" y="2182680"/>
            <a:chExt cx="9144000" cy="360"/>
          </a:xfrm>
        </p:grpSpPr>
        <p:sp>
          <p:nvSpPr>
            <p:cNvPr id="714" name="Line 3"/>
            <p:cNvSpPr/>
            <p:nvPr/>
          </p:nvSpPr>
          <p:spPr>
            <a:xfrm>
              <a:off x="0" y="218268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 txBox="1"/>
            <p:nvPr/>
          </p:nvSpPr>
          <p:spPr>
            <a:xfrm>
              <a:off x="0" y="21826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0" y="1452600"/>
            <a:ext cx="9144000" cy="360"/>
            <a:chOff x="0" y="1452600"/>
            <a:chExt cx="9144000" cy="360"/>
          </a:xfrm>
        </p:grpSpPr>
        <p:sp>
          <p:nvSpPr>
            <p:cNvPr id="717" name="Line 4"/>
            <p:cNvSpPr/>
            <p:nvPr/>
          </p:nvSpPr>
          <p:spPr>
            <a:xfrm>
              <a:off x="0" y="145260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 txBox="1"/>
            <p:nvPr/>
          </p:nvSpPr>
          <p:spPr>
            <a:xfrm>
              <a:off x="0" y="14526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0" y="2919240"/>
            <a:ext cx="9144000" cy="360"/>
            <a:chOff x="0" y="2919240"/>
            <a:chExt cx="9144000" cy="360"/>
          </a:xfrm>
        </p:grpSpPr>
        <p:sp>
          <p:nvSpPr>
            <p:cNvPr id="720" name="Line 5"/>
            <p:cNvSpPr/>
            <p:nvPr/>
          </p:nvSpPr>
          <p:spPr>
            <a:xfrm>
              <a:off x="0" y="291924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 txBox="1"/>
            <p:nvPr/>
          </p:nvSpPr>
          <p:spPr>
            <a:xfrm>
              <a:off x="0" y="29192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0" y="2919240"/>
            <a:ext cx="9144000" cy="360"/>
            <a:chOff x="0" y="2919240"/>
            <a:chExt cx="9144000" cy="360"/>
          </a:xfrm>
        </p:grpSpPr>
        <p:sp>
          <p:nvSpPr>
            <p:cNvPr id="723" name="Line 6"/>
            <p:cNvSpPr/>
            <p:nvPr/>
          </p:nvSpPr>
          <p:spPr>
            <a:xfrm>
              <a:off x="0" y="291924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 txBox="1"/>
            <p:nvPr/>
          </p:nvSpPr>
          <p:spPr>
            <a:xfrm>
              <a:off x="0" y="29192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Rectangle 7"/>
          <p:cNvSpPr/>
          <p:nvPr/>
        </p:nvSpPr>
        <p:spPr>
          <a:xfrm>
            <a:off x="0" y="514440"/>
            <a:ext cx="914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ff"/>
                </a:solidFill>
                <a:latin typeface="宋体"/>
              </a:rPr>
              <a:t>pá pò pǔ pà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0" y="5207040"/>
            <a:ext cx="9144000" cy="360"/>
            <a:chOff x="0" y="5207040"/>
            <a:chExt cx="9144000" cy="360"/>
          </a:xfrm>
        </p:grpSpPr>
        <p:sp>
          <p:nvSpPr>
            <p:cNvPr id="727" name="Line 8"/>
            <p:cNvSpPr/>
            <p:nvPr/>
          </p:nvSpPr>
          <p:spPr>
            <a:xfrm>
              <a:off x="0" y="520704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 txBox="1"/>
            <p:nvPr/>
          </p:nvSpPr>
          <p:spPr>
            <a:xfrm>
              <a:off x="0" y="52070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0" y="5937120"/>
            <a:ext cx="9144000" cy="360"/>
            <a:chOff x="0" y="5937120"/>
            <a:chExt cx="9144000" cy="360"/>
          </a:xfrm>
        </p:grpSpPr>
        <p:sp>
          <p:nvSpPr>
            <p:cNvPr id="730" name="Line 9"/>
            <p:cNvSpPr/>
            <p:nvPr/>
          </p:nvSpPr>
          <p:spPr>
            <a:xfrm>
              <a:off x="0" y="593712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 txBox="1"/>
            <p:nvPr/>
          </p:nvSpPr>
          <p:spPr>
            <a:xfrm>
              <a:off x="0" y="59371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0" y="4495680"/>
            <a:ext cx="9144000" cy="360"/>
            <a:chOff x="0" y="4495680"/>
            <a:chExt cx="9144000" cy="360"/>
          </a:xfrm>
        </p:grpSpPr>
        <p:sp>
          <p:nvSpPr>
            <p:cNvPr id="733" name="Line 10"/>
            <p:cNvSpPr/>
            <p:nvPr/>
          </p:nvSpPr>
          <p:spPr>
            <a:xfrm>
              <a:off x="0" y="449568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 txBox="1"/>
            <p:nvPr/>
          </p:nvSpPr>
          <p:spPr>
            <a:xfrm>
              <a:off x="0" y="44956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0" y="3778200"/>
            <a:ext cx="9144000" cy="360"/>
            <a:chOff x="0" y="3778200"/>
            <a:chExt cx="9144000" cy="360"/>
          </a:xfrm>
        </p:grpSpPr>
        <p:sp>
          <p:nvSpPr>
            <p:cNvPr id="736" name="Line 11"/>
            <p:cNvSpPr/>
            <p:nvPr/>
          </p:nvSpPr>
          <p:spPr>
            <a:xfrm>
              <a:off x="0" y="377820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 txBox="1"/>
            <p:nvPr/>
          </p:nvSpPr>
          <p:spPr>
            <a:xfrm>
              <a:off x="0" y="37782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Rectangle 12"/>
          <p:cNvSpPr/>
          <p:nvPr/>
        </p:nvSpPr>
        <p:spPr>
          <a:xfrm>
            <a:off x="0" y="3548160"/>
            <a:ext cx="914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ff"/>
                </a:solidFill>
                <a:latin typeface="宋体"/>
              </a:rPr>
              <a:t>pú pā pí pù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5"/>
          <p:cNvSpPr/>
          <p:nvPr/>
        </p:nvSpPr>
        <p:spPr>
          <a:xfrm>
            <a:off x="2949480" y="511200"/>
            <a:ext cx="3175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0000"/>
                </a:solidFill>
                <a:latin typeface="宋体"/>
              </a:rPr>
              <a:t>mā mɑ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2671920" y="159084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 </a:t>
            </a:r>
            <a:r>
              <a:rPr b="1" lang="zh-CN" sz="8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妈 妈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7"/>
          <p:cNvSpPr/>
          <p:nvPr/>
        </p:nvSpPr>
        <p:spPr>
          <a:xfrm>
            <a:off x="1617840" y="2895480"/>
            <a:ext cx="17492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0000"/>
                </a:solidFill>
                <a:latin typeface="宋体"/>
              </a:rPr>
              <a:t>mā 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8"/>
          <p:cNvSpPr/>
          <p:nvPr/>
        </p:nvSpPr>
        <p:spPr>
          <a:xfrm>
            <a:off x="4049640" y="2889360"/>
            <a:ext cx="17496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0000"/>
                </a:solidFill>
                <a:latin typeface="宋体"/>
              </a:rPr>
              <a:t>m 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9"/>
          <p:cNvSpPr/>
          <p:nvPr/>
        </p:nvSpPr>
        <p:spPr>
          <a:xfrm>
            <a:off x="5227560" y="2879640"/>
            <a:ext cx="17496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0000"/>
                </a:solidFill>
                <a:latin typeface="宋体"/>
              </a:rPr>
              <a:t>ā 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3311640" y="3732120"/>
            <a:ext cx="522000" cy="360"/>
            <a:chOff x="3311640" y="3732120"/>
            <a:chExt cx="522000" cy="360"/>
          </a:xfrm>
        </p:grpSpPr>
        <p:sp>
          <p:nvSpPr>
            <p:cNvPr id="745" name="Line 10"/>
            <p:cNvSpPr/>
            <p:nvPr/>
          </p:nvSpPr>
          <p:spPr>
            <a:xfrm>
              <a:off x="3311640" y="3732120"/>
              <a:ext cx="52200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>
              <a:off x="3311640" y="3732120"/>
              <a:ext cx="52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4921200" y="3716280"/>
            <a:ext cx="290520" cy="360"/>
            <a:chOff x="4921200" y="3716280"/>
            <a:chExt cx="290520" cy="360"/>
          </a:xfrm>
        </p:grpSpPr>
        <p:sp>
          <p:nvSpPr>
            <p:cNvPr id="748" name="Line 11"/>
            <p:cNvSpPr/>
            <p:nvPr/>
          </p:nvSpPr>
          <p:spPr>
            <a:xfrm>
              <a:off x="4921200" y="3716280"/>
              <a:ext cx="29052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 txBox="1"/>
            <p:nvPr/>
          </p:nvSpPr>
          <p:spPr>
            <a:xfrm>
              <a:off x="4921200" y="3716280"/>
              <a:ext cx="290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3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WordArt 4"/>
          <p:cNvSpPr txBox="1"/>
          <p:nvPr/>
        </p:nvSpPr>
        <p:spPr>
          <a:xfrm>
            <a:off x="4336920" y="422280"/>
            <a:ext cx="3921120" cy="26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Arial"/>
              </a:rPr>
              <a:t>m</a:t>
            </a:r>
            <a:endParaRPr b="0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751" name="Picture 3" descr="m"/>
          <p:cNvPicPr/>
          <p:nvPr/>
        </p:nvPicPr>
        <p:blipFill>
          <a:blip r:embed="rId1"/>
          <a:stretch/>
        </p:blipFill>
        <p:spPr>
          <a:xfrm>
            <a:off x="44280" y="2836800"/>
            <a:ext cx="464832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NA01441_"/>
          <p:cNvPicPr/>
          <p:nvPr/>
        </p:nvPicPr>
        <p:blipFill>
          <a:blip r:embed="rId1"/>
          <a:stretch/>
        </p:blipFill>
        <p:spPr>
          <a:xfrm>
            <a:off x="1619280" y="0"/>
            <a:ext cx="6075360" cy="6553080"/>
          </a:xfrm>
          <a:prstGeom prst="rect">
            <a:avLst/>
          </a:prstGeom>
          <a:ln w="0">
            <a:noFill/>
          </a:ln>
        </p:spPr>
      </p:pic>
      <p:sp>
        <p:nvSpPr>
          <p:cNvPr id="510" name="Oval 3"/>
          <p:cNvSpPr/>
          <p:nvPr/>
        </p:nvSpPr>
        <p:spPr>
          <a:xfrm>
            <a:off x="1995480" y="2670120"/>
            <a:ext cx="76212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Comic Sans MS"/>
              </a:rPr>
              <a:t>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Oval 4"/>
          <p:cNvSpPr/>
          <p:nvPr/>
        </p:nvSpPr>
        <p:spPr>
          <a:xfrm>
            <a:off x="2495520" y="1589040"/>
            <a:ext cx="76212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  <a:ea typeface="隶书"/>
              </a:rPr>
              <a:t>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Oval 5"/>
          <p:cNvSpPr/>
          <p:nvPr/>
        </p:nvSpPr>
        <p:spPr>
          <a:xfrm>
            <a:off x="3352680" y="457200"/>
            <a:ext cx="76212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  <a:ea typeface="隶书"/>
              </a:rPr>
              <a:t>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6"/>
          <p:cNvSpPr/>
          <p:nvPr/>
        </p:nvSpPr>
        <p:spPr>
          <a:xfrm>
            <a:off x="3809880" y="1676520"/>
            <a:ext cx="762120" cy="7617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Comic Sans MS"/>
              </a:rPr>
              <a:t>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7"/>
          <p:cNvSpPr/>
          <p:nvPr/>
        </p:nvSpPr>
        <p:spPr>
          <a:xfrm>
            <a:off x="5364000" y="189000"/>
            <a:ext cx="762120" cy="7617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Comic Sans MS"/>
              </a:rPr>
              <a:t>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Oval 8"/>
          <p:cNvSpPr/>
          <p:nvPr/>
        </p:nvSpPr>
        <p:spPr>
          <a:xfrm>
            <a:off x="4788000" y="1341360"/>
            <a:ext cx="76176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  <a:ea typeface="隶书"/>
              </a:rPr>
              <a:t>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Oval 9"/>
          <p:cNvSpPr/>
          <p:nvPr/>
        </p:nvSpPr>
        <p:spPr>
          <a:xfrm>
            <a:off x="5867280" y="1916280"/>
            <a:ext cx="762120" cy="7617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Comic Sans MS"/>
              </a:rPr>
              <a:t>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Oval 10"/>
          <p:cNvSpPr/>
          <p:nvPr/>
        </p:nvSpPr>
        <p:spPr>
          <a:xfrm>
            <a:off x="6588000" y="1052640"/>
            <a:ext cx="762120" cy="7617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Comic Sans MS"/>
                <a:ea typeface="楷体_GB2312"/>
              </a:rPr>
              <a:t>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11"/>
          <p:cNvSpPr/>
          <p:nvPr/>
        </p:nvSpPr>
        <p:spPr>
          <a:xfrm>
            <a:off x="7164360" y="2133720"/>
            <a:ext cx="762120" cy="7617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Group 12"/>
          <p:cNvGrpSpPr/>
          <p:nvPr/>
        </p:nvGrpSpPr>
        <p:grpSpPr>
          <a:xfrm>
            <a:off x="957240" y="4365720"/>
            <a:ext cx="2533680" cy="2539440"/>
            <a:chOff x="957240" y="4365720"/>
            <a:chExt cx="2533680" cy="2539440"/>
          </a:xfrm>
        </p:grpSpPr>
        <p:sp>
          <p:nvSpPr>
            <p:cNvPr id="520" name="AutoShape 13"/>
            <p:cNvSpPr/>
            <p:nvPr/>
          </p:nvSpPr>
          <p:spPr>
            <a:xfrm rot="2343600">
              <a:off x="1331640" y="4723920"/>
              <a:ext cx="1784160" cy="18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14"/>
            <p:cNvSpPr/>
            <p:nvPr/>
          </p:nvSpPr>
          <p:spPr>
            <a:xfrm rot="2343600">
              <a:off x="1573200" y="4725720"/>
              <a:ext cx="1547640" cy="1140120"/>
            </a:xfrm>
            <a:custGeom>
              <a:avLst/>
              <a:gdLst/>
              <a:ahLst/>
              <a:rect l="l" t="t" r="r" b="b"/>
              <a:pathLst>
                <a:path w="1951" h="1435">
                  <a:moveTo>
                    <a:pt x="0" y="1434"/>
                  </a:moveTo>
                  <a:lnTo>
                    <a:pt x="716" y="1435"/>
                  </a:lnTo>
                  <a:lnTo>
                    <a:pt x="716" y="894"/>
                  </a:lnTo>
                  <a:lnTo>
                    <a:pt x="1329" y="894"/>
                  </a:lnTo>
                  <a:lnTo>
                    <a:pt x="1329" y="441"/>
                  </a:lnTo>
                  <a:lnTo>
                    <a:pt x="1471" y="441"/>
                  </a:lnTo>
                  <a:lnTo>
                    <a:pt x="1471" y="256"/>
                  </a:lnTo>
                  <a:lnTo>
                    <a:pt x="1812" y="256"/>
                  </a:lnTo>
                  <a:lnTo>
                    <a:pt x="1812" y="441"/>
                  </a:lnTo>
                  <a:lnTo>
                    <a:pt x="1951" y="441"/>
                  </a:lnTo>
                  <a:lnTo>
                    <a:pt x="1870" y="0"/>
                  </a:lnTo>
                  <a:lnTo>
                    <a:pt x="1853" y="1"/>
                  </a:lnTo>
                  <a:lnTo>
                    <a:pt x="1838" y="2"/>
                  </a:lnTo>
                  <a:lnTo>
                    <a:pt x="1825" y="3"/>
                  </a:lnTo>
                  <a:lnTo>
                    <a:pt x="1814" y="6"/>
                  </a:lnTo>
                  <a:lnTo>
                    <a:pt x="1805" y="7"/>
                  </a:lnTo>
                  <a:lnTo>
                    <a:pt x="1795" y="8"/>
                  </a:lnTo>
                  <a:lnTo>
                    <a:pt x="1787" y="10"/>
                  </a:lnTo>
                  <a:lnTo>
                    <a:pt x="1779" y="12"/>
                  </a:lnTo>
                  <a:lnTo>
                    <a:pt x="1737" y="21"/>
                  </a:lnTo>
                  <a:lnTo>
                    <a:pt x="1692" y="31"/>
                  </a:lnTo>
                  <a:lnTo>
                    <a:pt x="1645" y="44"/>
                  </a:lnTo>
                  <a:lnTo>
                    <a:pt x="1595" y="58"/>
                  </a:lnTo>
                  <a:lnTo>
                    <a:pt x="1546" y="73"/>
                  </a:lnTo>
                  <a:lnTo>
                    <a:pt x="1493" y="90"/>
                  </a:lnTo>
                  <a:lnTo>
                    <a:pt x="1440" y="109"/>
                  </a:lnTo>
                  <a:lnTo>
                    <a:pt x="1384" y="130"/>
                  </a:lnTo>
                  <a:lnTo>
                    <a:pt x="1329" y="153"/>
                  </a:lnTo>
                  <a:lnTo>
                    <a:pt x="1271" y="179"/>
                  </a:lnTo>
                  <a:lnTo>
                    <a:pt x="1214" y="205"/>
                  </a:lnTo>
                  <a:lnTo>
                    <a:pt x="1155" y="235"/>
                  </a:lnTo>
                  <a:lnTo>
                    <a:pt x="1095" y="267"/>
                  </a:lnTo>
                  <a:lnTo>
                    <a:pt x="1035" y="301"/>
                  </a:lnTo>
                  <a:lnTo>
                    <a:pt x="974" y="338"/>
                  </a:lnTo>
                  <a:lnTo>
                    <a:pt x="914" y="377"/>
                  </a:lnTo>
                  <a:lnTo>
                    <a:pt x="853" y="419"/>
                  </a:lnTo>
                  <a:lnTo>
                    <a:pt x="791" y="464"/>
                  </a:lnTo>
                  <a:lnTo>
                    <a:pt x="730" y="513"/>
                  </a:lnTo>
                  <a:lnTo>
                    <a:pt x="670" y="563"/>
                  </a:lnTo>
                  <a:lnTo>
                    <a:pt x="609" y="616"/>
                  </a:lnTo>
                  <a:lnTo>
                    <a:pt x="549" y="674"/>
                  </a:lnTo>
                  <a:lnTo>
                    <a:pt x="489" y="734"/>
                  </a:lnTo>
                  <a:lnTo>
                    <a:pt x="431" y="797"/>
                  </a:lnTo>
                  <a:lnTo>
                    <a:pt x="373" y="864"/>
                  </a:lnTo>
                  <a:lnTo>
                    <a:pt x="316" y="934"/>
                  </a:lnTo>
                  <a:lnTo>
                    <a:pt x="260" y="1008"/>
                  </a:lnTo>
                  <a:lnTo>
                    <a:pt x="205" y="1086"/>
                  </a:lnTo>
                  <a:lnTo>
                    <a:pt x="151" y="1167"/>
                  </a:lnTo>
                  <a:lnTo>
                    <a:pt x="99" y="1252"/>
                  </a:lnTo>
                  <a:lnTo>
                    <a:pt x="48" y="1341"/>
                  </a:lnTo>
                  <a:lnTo>
                    <a:pt x="0" y="1434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5"/>
            <p:cNvSpPr/>
            <p:nvPr/>
          </p:nvSpPr>
          <p:spPr>
            <a:xfrm rot="2343600">
              <a:off x="2078280" y="5993640"/>
              <a:ext cx="7308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Rectangle 16"/>
            <p:cNvSpPr/>
            <p:nvPr/>
          </p:nvSpPr>
          <p:spPr>
            <a:xfrm rot="2343600">
              <a:off x="1653840" y="5650560"/>
              <a:ext cx="763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Rectangle 17"/>
            <p:cNvSpPr/>
            <p:nvPr/>
          </p:nvSpPr>
          <p:spPr>
            <a:xfrm rot="2343600">
              <a:off x="1529640" y="5549040"/>
              <a:ext cx="745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18"/>
            <p:cNvSpPr/>
            <p:nvPr/>
          </p:nvSpPr>
          <p:spPr>
            <a:xfrm rot="2343600">
              <a:off x="1405080" y="5448240"/>
              <a:ext cx="7596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19"/>
            <p:cNvSpPr/>
            <p:nvPr/>
          </p:nvSpPr>
          <p:spPr>
            <a:xfrm rot="2343600">
              <a:off x="2207160" y="6099840"/>
              <a:ext cx="763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0"/>
            <p:cNvSpPr/>
            <p:nvPr/>
          </p:nvSpPr>
          <p:spPr>
            <a:xfrm rot="2343600">
              <a:off x="2338200" y="6205680"/>
              <a:ext cx="7596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21"/>
            <p:cNvSpPr/>
            <p:nvPr/>
          </p:nvSpPr>
          <p:spPr>
            <a:xfrm rot="2343600">
              <a:off x="2468520" y="577800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22"/>
            <p:cNvSpPr/>
            <p:nvPr/>
          </p:nvSpPr>
          <p:spPr>
            <a:xfrm rot="2343600">
              <a:off x="2599200" y="588384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23"/>
            <p:cNvSpPr/>
            <p:nvPr/>
          </p:nvSpPr>
          <p:spPr>
            <a:xfrm rot="2343600">
              <a:off x="2574720" y="564696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24"/>
            <p:cNvSpPr/>
            <p:nvPr/>
          </p:nvSpPr>
          <p:spPr>
            <a:xfrm rot="2343600">
              <a:off x="2705400" y="575280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25"/>
            <p:cNvSpPr/>
            <p:nvPr/>
          </p:nvSpPr>
          <p:spPr>
            <a:xfrm rot="2343600">
              <a:off x="2212200" y="556992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Rectangle 26"/>
            <p:cNvSpPr/>
            <p:nvPr/>
          </p:nvSpPr>
          <p:spPr>
            <a:xfrm rot="2343600">
              <a:off x="2342520" y="5675040"/>
              <a:ext cx="7488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27"/>
            <p:cNvSpPr/>
            <p:nvPr/>
          </p:nvSpPr>
          <p:spPr>
            <a:xfrm rot="2343600">
              <a:off x="2087640" y="546876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28"/>
            <p:cNvSpPr/>
            <p:nvPr/>
          </p:nvSpPr>
          <p:spPr>
            <a:xfrm rot="2343600">
              <a:off x="2369520" y="589968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Rectangle 29"/>
            <p:cNvSpPr/>
            <p:nvPr/>
          </p:nvSpPr>
          <p:spPr>
            <a:xfrm rot="2343600">
              <a:off x="2500200" y="600552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30"/>
            <p:cNvSpPr/>
            <p:nvPr/>
          </p:nvSpPr>
          <p:spPr>
            <a:xfrm rot="2343600">
              <a:off x="2113200" y="569196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31"/>
            <p:cNvSpPr/>
            <p:nvPr/>
          </p:nvSpPr>
          <p:spPr>
            <a:xfrm rot="2343600">
              <a:off x="2243880" y="5797080"/>
              <a:ext cx="7488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32"/>
            <p:cNvSpPr/>
            <p:nvPr/>
          </p:nvSpPr>
          <p:spPr>
            <a:xfrm rot="2343600">
              <a:off x="1988640" y="559044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33"/>
            <p:cNvSpPr/>
            <p:nvPr/>
          </p:nvSpPr>
          <p:spPr>
            <a:xfrm rot="2343600">
              <a:off x="2679840" y="5517720"/>
              <a:ext cx="76320" cy="7488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34"/>
            <p:cNvSpPr/>
            <p:nvPr/>
          </p:nvSpPr>
          <p:spPr>
            <a:xfrm rot="2343600">
              <a:off x="2810880" y="5623920"/>
              <a:ext cx="75960" cy="7488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Freeform 35"/>
            <p:cNvSpPr/>
            <p:nvPr/>
          </p:nvSpPr>
          <p:spPr>
            <a:xfrm rot="2343600">
              <a:off x="2719440" y="5705640"/>
              <a:ext cx="204840" cy="892080"/>
            </a:xfrm>
            <a:custGeom>
              <a:avLst/>
              <a:gdLst/>
              <a:ahLst/>
              <a:rect l="l" t="t" r="r" b="b"/>
              <a:pathLst>
                <a:path w="258" h="1124">
                  <a:moveTo>
                    <a:pt x="258" y="1124"/>
                  </a:moveTo>
                  <a:lnTo>
                    <a:pt x="0" y="0"/>
                  </a:lnTo>
                  <a:lnTo>
                    <a:pt x="1" y="1124"/>
                  </a:lnTo>
                  <a:lnTo>
                    <a:pt x="258" y="1124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Freeform 36"/>
            <p:cNvSpPr/>
            <p:nvPr/>
          </p:nvSpPr>
          <p:spPr>
            <a:xfrm rot="2343600">
              <a:off x="1002960" y="5753160"/>
              <a:ext cx="1517760" cy="595440"/>
            </a:xfrm>
            <a:custGeom>
              <a:avLst/>
              <a:gdLst/>
              <a:ahLst/>
              <a:rect l="l" t="t" r="r" b="b"/>
              <a:pathLst>
                <a:path w="1912" h="750">
                  <a:moveTo>
                    <a:pt x="1912" y="265"/>
                  </a:moveTo>
                  <a:lnTo>
                    <a:pt x="1106" y="263"/>
                  </a:lnTo>
                  <a:lnTo>
                    <a:pt x="1106" y="0"/>
                  </a:lnTo>
                  <a:lnTo>
                    <a:pt x="989" y="0"/>
                  </a:lnTo>
                  <a:lnTo>
                    <a:pt x="989" y="264"/>
                  </a:lnTo>
                  <a:lnTo>
                    <a:pt x="919" y="264"/>
                  </a:lnTo>
                  <a:lnTo>
                    <a:pt x="919" y="0"/>
                  </a:lnTo>
                  <a:lnTo>
                    <a:pt x="803" y="0"/>
                  </a:lnTo>
                  <a:lnTo>
                    <a:pt x="803" y="263"/>
                  </a:lnTo>
                  <a:lnTo>
                    <a:pt x="0" y="259"/>
                  </a:lnTo>
                  <a:lnTo>
                    <a:pt x="0" y="339"/>
                  </a:lnTo>
                  <a:lnTo>
                    <a:pt x="1334" y="338"/>
                  </a:lnTo>
                  <a:lnTo>
                    <a:pt x="1334" y="407"/>
                  </a:lnTo>
                  <a:lnTo>
                    <a:pt x="415" y="407"/>
                  </a:lnTo>
                  <a:lnTo>
                    <a:pt x="415" y="487"/>
                  </a:lnTo>
                  <a:lnTo>
                    <a:pt x="921" y="487"/>
                  </a:lnTo>
                  <a:lnTo>
                    <a:pt x="1383" y="750"/>
                  </a:lnTo>
                  <a:lnTo>
                    <a:pt x="1399" y="724"/>
                  </a:lnTo>
                  <a:lnTo>
                    <a:pt x="1415" y="696"/>
                  </a:lnTo>
                  <a:lnTo>
                    <a:pt x="1434" y="669"/>
                  </a:lnTo>
                  <a:lnTo>
                    <a:pt x="1452" y="644"/>
                  </a:lnTo>
                  <a:lnTo>
                    <a:pt x="1471" y="619"/>
                  </a:lnTo>
                  <a:lnTo>
                    <a:pt x="1491" y="593"/>
                  </a:lnTo>
                  <a:lnTo>
                    <a:pt x="1512" y="569"/>
                  </a:lnTo>
                  <a:lnTo>
                    <a:pt x="1533" y="545"/>
                  </a:lnTo>
                  <a:lnTo>
                    <a:pt x="1590" y="486"/>
                  </a:lnTo>
                  <a:lnTo>
                    <a:pt x="1605" y="474"/>
                  </a:lnTo>
                  <a:lnTo>
                    <a:pt x="1622" y="460"/>
                  </a:lnTo>
                  <a:lnTo>
                    <a:pt x="1639" y="445"/>
                  </a:lnTo>
                  <a:lnTo>
                    <a:pt x="1658" y="430"/>
                  </a:lnTo>
                  <a:lnTo>
                    <a:pt x="1679" y="415"/>
                  </a:lnTo>
                  <a:lnTo>
                    <a:pt x="1700" y="399"/>
                  </a:lnTo>
                  <a:lnTo>
                    <a:pt x="1723" y="384"/>
                  </a:lnTo>
                  <a:lnTo>
                    <a:pt x="1745" y="368"/>
                  </a:lnTo>
                  <a:lnTo>
                    <a:pt x="1768" y="353"/>
                  </a:lnTo>
                  <a:lnTo>
                    <a:pt x="1791" y="338"/>
                  </a:lnTo>
                  <a:lnTo>
                    <a:pt x="1813" y="323"/>
                  </a:lnTo>
                  <a:lnTo>
                    <a:pt x="1835" y="309"/>
                  </a:lnTo>
                  <a:lnTo>
                    <a:pt x="1855" y="296"/>
                  </a:lnTo>
                  <a:lnTo>
                    <a:pt x="1876" y="285"/>
                  </a:lnTo>
                  <a:lnTo>
                    <a:pt x="1895" y="274"/>
                  </a:lnTo>
                  <a:lnTo>
                    <a:pt x="1912" y="265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Group 37"/>
          <p:cNvGrpSpPr/>
          <p:nvPr/>
        </p:nvGrpSpPr>
        <p:grpSpPr>
          <a:xfrm>
            <a:off x="6084720" y="4222800"/>
            <a:ext cx="2533680" cy="2539440"/>
            <a:chOff x="6084720" y="4222800"/>
            <a:chExt cx="2533680" cy="2539440"/>
          </a:xfrm>
        </p:grpSpPr>
        <p:sp>
          <p:nvSpPr>
            <p:cNvPr id="545" name="AutoShape 38"/>
            <p:cNvSpPr/>
            <p:nvPr/>
          </p:nvSpPr>
          <p:spPr>
            <a:xfrm rot="2343600">
              <a:off x="6459120" y="4581000"/>
              <a:ext cx="1784160" cy="18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39"/>
            <p:cNvSpPr/>
            <p:nvPr/>
          </p:nvSpPr>
          <p:spPr>
            <a:xfrm rot="2343600">
              <a:off x="6700680" y="4582800"/>
              <a:ext cx="1547640" cy="1140120"/>
            </a:xfrm>
            <a:custGeom>
              <a:avLst/>
              <a:gdLst/>
              <a:ahLst/>
              <a:rect l="l" t="t" r="r" b="b"/>
              <a:pathLst>
                <a:path w="1951" h="1435">
                  <a:moveTo>
                    <a:pt x="0" y="1434"/>
                  </a:moveTo>
                  <a:lnTo>
                    <a:pt x="716" y="1435"/>
                  </a:lnTo>
                  <a:lnTo>
                    <a:pt x="716" y="894"/>
                  </a:lnTo>
                  <a:lnTo>
                    <a:pt x="1329" y="894"/>
                  </a:lnTo>
                  <a:lnTo>
                    <a:pt x="1329" y="441"/>
                  </a:lnTo>
                  <a:lnTo>
                    <a:pt x="1471" y="441"/>
                  </a:lnTo>
                  <a:lnTo>
                    <a:pt x="1471" y="256"/>
                  </a:lnTo>
                  <a:lnTo>
                    <a:pt x="1812" y="256"/>
                  </a:lnTo>
                  <a:lnTo>
                    <a:pt x="1812" y="441"/>
                  </a:lnTo>
                  <a:lnTo>
                    <a:pt x="1951" y="441"/>
                  </a:lnTo>
                  <a:lnTo>
                    <a:pt x="1870" y="0"/>
                  </a:lnTo>
                  <a:lnTo>
                    <a:pt x="1853" y="1"/>
                  </a:lnTo>
                  <a:lnTo>
                    <a:pt x="1838" y="2"/>
                  </a:lnTo>
                  <a:lnTo>
                    <a:pt x="1825" y="3"/>
                  </a:lnTo>
                  <a:lnTo>
                    <a:pt x="1814" y="6"/>
                  </a:lnTo>
                  <a:lnTo>
                    <a:pt x="1805" y="7"/>
                  </a:lnTo>
                  <a:lnTo>
                    <a:pt x="1795" y="8"/>
                  </a:lnTo>
                  <a:lnTo>
                    <a:pt x="1787" y="10"/>
                  </a:lnTo>
                  <a:lnTo>
                    <a:pt x="1779" y="12"/>
                  </a:lnTo>
                  <a:lnTo>
                    <a:pt x="1737" y="21"/>
                  </a:lnTo>
                  <a:lnTo>
                    <a:pt x="1692" y="31"/>
                  </a:lnTo>
                  <a:lnTo>
                    <a:pt x="1645" y="44"/>
                  </a:lnTo>
                  <a:lnTo>
                    <a:pt x="1595" y="58"/>
                  </a:lnTo>
                  <a:lnTo>
                    <a:pt x="1546" y="73"/>
                  </a:lnTo>
                  <a:lnTo>
                    <a:pt x="1493" y="90"/>
                  </a:lnTo>
                  <a:lnTo>
                    <a:pt x="1440" y="109"/>
                  </a:lnTo>
                  <a:lnTo>
                    <a:pt x="1384" y="130"/>
                  </a:lnTo>
                  <a:lnTo>
                    <a:pt x="1329" y="153"/>
                  </a:lnTo>
                  <a:lnTo>
                    <a:pt x="1271" y="179"/>
                  </a:lnTo>
                  <a:lnTo>
                    <a:pt x="1214" y="205"/>
                  </a:lnTo>
                  <a:lnTo>
                    <a:pt x="1155" y="235"/>
                  </a:lnTo>
                  <a:lnTo>
                    <a:pt x="1095" y="267"/>
                  </a:lnTo>
                  <a:lnTo>
                    <a:pt x="1035" y="301"/>
                  </a:lnTo>
                  <a:lnTo>
                    <a:pt x="974" y="338"/>
                  </a:lnTo>
                  <a:lnTo>
                    <a:pt x="914" y="377"/>
                  </a:lnTo>
                  <a:lnTo>
                    <a:pt x="853" y="419"/>
                  </a:lnTo>
                  <a:lnTo>
                    <a:pt x="791" y="464"/>
                  </a:lnTo>
                  <a:lnTo>
                    <a:pt x="730" y="513"/>
                  </a:lnTo>
                  <a:lnTo>
                    <a:pt x="670" y="563"/>
                  </a:lnTo>
                  <a:lnTo>
                    <a:pt x="609" y="616"/>
                  </a:lnTo>
                  <a:lnTo>
                    <a:pt x="549" y="674"/>
                  </a:lnTo>
                  <a:lnTo>
                    <a:pt x="489" y="734"/>
                  </a:lnTo>
                  <a:lnTo>
                    <a:pt x="431" y="797"/>
                  </a:lnTo>
                  <a:lnTo>
                    <a:pt x="373" y="864"/>
                  </a:lnTo>
                  <a:lnTo>
                    <a:pt x="316" y="934"/>
                  </a:lnTo>
                  <a:lnTo>
                    <a:pt x="260" y="1008"/>
                  </a:lnTo>
                  <a:lnTo>
                    <a:pt x="205" y="1086"/>
                  </a:lnTo>
                  <a:lnTo>
                    <a:pt x="151" y="1167"/>
                  </a:lnTo>
                  <a:lnTo>
                    <a:pt x="99" y="1252"/>
                  </a:lnTo>
                  <a:lnTo>
                    <a:pt x="48" y="1341"/>
                  </a:lnTo>
                  <a:lnTo>
                    <a:pt x="0" y="1434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40"/>
            <p:cNvSpPr/>
            <p:nvPr/>
          </p:nvSpPr>
          <p:spPr>
            <a:xfrm rot="2343600">
              <a:off x="7205760" y="5850720"/>
              <a:ext cx="7308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Rectangle 41"/>
            <p:cNvSpPr/>
            <p:nvPr/>
          </p:nvSpPr>
          <p:spPr>
            <a:xfrm rot="2343600">
              <a:off x="6781320" y="5507640"/>
              <a:ext cx="763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42"/>
            <p:cNvSpPr/>
            <p:nvPr/>
          </p:nvSpPr>
          <p:spPr>
            <a:xfrm rot="2343600">
              <a:off x="6657120" y="5406120"/>
              <a:ext cx="745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43"/>
            <p:cNvSpPr/>
            <p:nvPr/>
          </p:nvSpPr>
          <p:spPr>
            <a:xfrm rot="2343600">
              <a:off x="6532560" y="5305320"/>
              <a:ext cx="7596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44"/>
            <p:cNvSpPr/>
            <p:nvPr/>
          </p:nvSpPr>
          <p:spPr>
            <a:xfrm rot="2343600">
              <a:off x="7334640" y="5956920"/>
              <a:ext cx="763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45"/>
            <p:cNvSpPr/>
            <p:nvPr/>
          </p:nvSpPr>
          <p:spPr>
            <a:xfrm rot="2343600">
              <a:off x="7465680" y="6062760"/>
              <a:ext cx="7596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46"/>
            <p:cNvSpPr/>
            <p:nvPr/>
          </p:nvSpPr>
          <p:spPr>
            <a:xfrm rot="2343600">
              <a:off x="7596000" y="563508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47"/>
            <p:cNvSpPr/>
            <p:nvPr/>
          </p:nvSpPr>
          <p:spPr>
            <a:xfrm rot="2343600">
              <a:off x="7726680" y="574092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48"/>
            <p:cNvSpPr/>
            <p:nvPr/>
          </p:nvSpPr>
          <p:spPr>
            <a:xfrm rot="2343600">
              <a:off x="7702200" y="550404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49"/>
            <p:cNvSpPr/>
            <p:nvPr/>
          </p:nvSpPr>
          <p:spPr>
            <a:xfrm rot="2343600">
              <a:off x="7832880" y="560988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50"/>
            <p:cNvSpPr/>
            <p:nvPr/>
          </p:nvSpPr>
          <p:spPr>
            <a:xfrm rot="2343600">
              <a:off x="7339680" y="542700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51"/>
            <p:cNvSpPr/>
            <p:nvPr/>
          </p:nvSpPr>
          <p:spPr>
            <a:xfrm rot="2343600">
              <a:off x="7470000" y="5532120"/>
              <a:ext cx="7488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52"/>
            <p:cNvSpPr/>
            <p:nvPr/>
          </p:nvSpPr>
          <p:spPr>
            <a:xfrm rot="2343600">
              <a:off x="7215120" y="532584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53"/>
            <p:cNvSpPr/>
            <p:nvPr/>
          </p:nvSpPr>
          <p:spPr>
            <a:xfrm rot="2343600">
              <a:off x="7497000" y="575676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54"/>
            <p:cNvSpPr/>
            <p:nvPr/>
          </p:nvSpPr>
          <p:spPr>
            <a:xfrm rot="2343600">
              <a:off x="7627680" y="586260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55"/>
            <p:cNvSpPr/>
            <p:nvPr/>
          </p:nvSpPr>
          <p:spPr>
            <a:xfrm rot="2343600">
              <a:off x="7240680" y="554904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56"/>
            <p:cNvSpPr/>
            <p:nvPr/>
          </p:nvSpPr>
          <p:spPr>
            <a:xfrm rot="2343600">
              <a:off x="7371360" y="5654160"/>
              <a:ext cx="7488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57"/>
            <p:cNvSpPr/>
            <p:nvPr/>
          </p:nvSpPr>
          <p:spPr>
            <a:xfrm rot="2343600">
              <a:off x="7116120" y="544752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58"/>
            <p:cNvSpPr/>
            <p:nvPr/>
          </p:nvSpPr>
          <p:spPr>
            <a:xfrm rot="2343600">
              <a:off x="7807320" y="5374800"/>
              <a:ext cx="76320" cy="7488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59"/>
            <p:cNvSpPr/>
            <p:nvPr/>
          </p:nvSpPr>
          <p:spPr>
            <a:xfrm rot="2343600">
              <a:off x="7938360" y="5481000"/>
              <a:ext cx="75960" cy="7488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60"/>
            <p:cNvSpPr/>
            <p:nvPr/>
          </p:nvSpPr>
          <p:spPr>
            <a:xfrm rot="2343600">
              <a:off x="7846920" y="5562720"/>
              <a:ext cx="204840" cy="892080"/>
            </a:xfrm>
            <a:custGeom>
              <a:avLst/>
              <a:gdLst/>
              <a:ahLst/>
              <a:rect l="l" t="t" r="r" b="b"/>
              <a:pathLst>
                <a:path w="258" h="1124">
                  <a:moveTo>
                    <a:pt x="258" y="1124"/>
                  </a:moveTo>
                  <a:lnTo>
                    <a:pt x="0" y="0"/>
                  </a:lnTo>
                  <a:lnTo>
                    <a:pt x="1" y="1124"/>
                  </a:lnTo>
                  <a:lnTo>
                    <a:pt x="258" y="1124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61"/>
            <p:cNvSpPr/>
            <p:nvPr/>
          </p:nvSpPr>
          <p:spPr>
            <a:xfrm rot="2343600">
              <a:off x="6130440" y="5610240"/>
              <a:ext cx="1517760" cy="595440"/>
            </a:xfrm>
            <a:custGeom>
              <a:avLst/>
              <a:gdLst/>
              <a:ahLst/>
              <a:rect l="l" t="t" r="r" b="b"/>
              <a:pathLst>
                <a:path w="1912" h="750">
                  <a:moveTo>
                    <a:pt x="1912" y="265"/>
                  </a:moveTo>
                  <a:lnTo>
                    <a:pt x="1106" y="263"/>
                  </a:lnTo>
                  <a:lnTo>
                    <a:pt x="1106" y="0"/>
                  </a:lnTo>
                  <a:lnTo>
                    <a:pt x="989" y="0"/>
                  </a:lnTo>
                  <a:lnTo>
                    <a:pt x="989" y="264"/>
                  </a:lnTo>
                  <a:lnTo>
                    <a:pt x="919" y="264"/>
                  </a:lnTo>
                  <a:lnTo>
                    <a:pt x="919" y="0"/>
                  </a:lnTo>
                  <a:lnTo>
                    <a:pt x="803" y="0"/>
                  </a:lnTo>
                  <a:lnTo>
                    <a:pt x="803" y="263"/>
                  </a:lnTo>
                  <a:lnTo>
                    <a:pt x="0" y="259"/>
                  </a:lnTo>
                  <a:lnTo>
                    <a:pt x="0" y="339"/>
                  </a:lnTo>
                  <a:lnTo>
                    <a:pt x="1334" y="338"/>
                  </a:lnTo>
                  <a:lnTo>
                    <a:pt x="1334" y="407"/>
                  </a:lnTo>
                  <a:lnTo>
                    <a:pt x="415" y="407"/>
                  </a:lnTo>
                  <a:lnTo>
                    <a:pt x="415" y="487"/>
                  </a:lnTo>
                  <a:lnTo>
                    <a:pt x="921" y="487"/>
                  </a:lnTo>
                  <a:lnTo>
                    <a:pt x="1383" y="750"/>
                  </a:lnTo>
                  <a:lnTo>
                    <a:pt x="1399" y="724"/>
                  </a:lnTo>
                  <a:lnTo>
                    <a:pt x="1415" y="696"/>
                  </a:lnTo>
                  <a:lnTo>
                    <a:pt x="1434" y="669"/>
                  </a:lnTo>
                  <a:lnTo>
                    <a:pt x="1452" y="644"/>
                  </a:lnTo>
                  <a:lnTo>
                    <a:pt x="1471" y="619"/>
                  </a:lnTo>
                  <a:lnTo>
                    <a:pt x="1491" y="593"/>
                  </a:lnTo>
                  <a:lnTo>
                    <a:pt x="1512" y="569"/>
                  </a:lnTo>
                  <a:lnTo>
                    <a:pt x="1533" y="545"/>
                  </a:lnTo>
                  <a:lnTo>
                    <a:pt x="1590" y="486"/>
                  </a:lnTo>
                  <a:lnTo>
                    <a:pt x="1605" y="474"/>
                  </a:lnTo>
                  <a:lnTo>
                    <a:pt x="1622" y="460"/>
                  </a:lnTo>
                  <a:lnTo>
                    <a:pt x="1639" y="445"/>
                  </a:lnTo>
                  <a:lnTo>
                    <a:pt x="1658" y="430"/>
                  </a:lnTo>
                  <a:lnTo>
                    <a:pt x="1679" y="415"/>
                  </a:lnTo>
                  <a:lnTo>
                    <a:pt x="1700" y="399"/>
                  </a:lnTo>
                  <a:lnTo>
                    <a:pt x="1723" y="384"/>
                  </a:lnTo>
                  <a:lnTo>
                    <a:pt x="1745" y="368"/>
                  </a:lnTo>
                  <a:lnTo>
                    <a:pt x="1768" y="353"/>
                  </a:lnTo>
                  <a:lnTo>
                    <a:pt x="1791" y="338"/>
                  </a:lnTo>
                  <a:lnTo>
                    <a:pt x="1813" y="323"/>
                  </a:lnTo>
                  <a:lnTo>
                    <a:pt x="1835" y="309"/>
                  </a:lnTo>
                  <a:lnTo>
                    <a:pt x="1855" y="296"/>
                  </a:lnTo>
                  <a:lnTo>
                    <a:pt x="1876" y="285"/>
                  </a:lnTo>
                  <a:lnTo>
                    <a:pt x="1895" y="274"/>
                  </a:lnTo>
                  <a:lnTo>
                    <a:pt x="1912" y="265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6 0.06544 L -0.09879 0.38012 E">
                                      <p:cBhvr>
                                        <p:cTn id="13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59 0.06337 L -0.07604 0.54602 E">
                                      <p:cBhvr>
                                        <p:cTn id="17" dur="2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0.06267 L -0.17604 0.65009 E">
                                      <p:cBhvr>
                                        <p:cTn id="21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5 0.07401 L -0.1552 0.49353 E">
                                      <p:cBhvr>
                                        <p:cTn id="25" dur="2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5 0.0703 L 0.21041 0.61586 E">
                                      <p:cBhvr>
                                        <p:cTn id="29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5 0.0599 L 0.21024 0.79418 E">
                                      <p:cBhvr>
                                        <p:cTn id="33" dur="2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73 0.0599 L 0.05295 0.4482 E">
                                      <p:cBhvr>
                                        <p:cTn id="3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599 L 0.10018 0.58442 E">
                                      <p:cBhvr>
                                        <p:cTn id="41" dur="2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703 L -0.02586 0.38506 E">
                                      <p:cBhvr>
                                        <p:cTn id="45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"/>
          <p:cNvGrpSpPr/>
          <p:nvPr/>
        </p:nvGrpSpPr>
        <p:grpSpPr>
          <a:xfrm>
            <a:off x="0" y="2278080"/>
            <a:ext cx="9144000" cy="360"/>
            <a:chOff x="0" y="2278080"/>
            <a:chExt cx="9144000" cy="360"/>
          </a:xfrm>
        </p:grpSpPr>
        <p:sp>
          <p:nvSpPr>
            <p:cNvPr id="753" name="Line 2"/>
            <p:cNvSpPr/>
            <p:nvPr/>
          </p:nvSpPr>
          <p:spPr>
            <a:xfrm>
              <a:off x="0" y="227808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 txBox="1"/>
            <p:nvPr/>
          </p:nvSpPr>
          <p:spPr>
            <a:xfrm>
              <a:off x="0" y="22780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0" y="4500720"/>
            <a:ext cx="9144000" cy="360"/>
            <a:chOff x="0" y="4500720"/>
            <a:chExt cx="9144000" cy="360"/>
          </a:xfrm>
        </p:grpSpPr>
        <p:sp>
          <p:nvSpPr>
            <p:cNvPr id="756" name="Line 3"/>
            <p:cNvSpPr/>
            <p:nvPr/>
          </p:nvSpPr>
          <p:spPr>
            <a:xfrm>
              <a:off x="0" y="450072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 txBox="1"/>
            <p:nvPr/>
          </p:nvSpPr>
          <p:spPr>
            <a:xfrm>
              <a:off x="0" y="4500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0" y="458640"/>
            <a:ext cx="9144000" cy="360"/>
            <a:chOff x="0" y="458640"/>
            <a:chExt cx="9144000" cy="360"/>
          </a:xfrm>
        </p:grpSpPr>
        <p:sp>
          <p:nvSpPr>
            <p:cNvPr id="759" name="Line 4"/>
            <p:cNvSpPr/>
            <p:nvPr/>
          </p:nvSpPr>
          <p:spPr>
            <a:xfrm>
              <a:off x="0" y="45864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 txBox="1"/>
            <p:nvPr/>
          </p:nvSpPr>
          <p:spPr>
            <a:xfrm>
              <a:off x="0" y="458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0" y="6494400"/>
            <a:ext cx="9144000" cy="360"/>
            <a:chOff x="0" y="6494400"/>
            <a:chExt cx="9144000" cy="360"/>
          </a:xfrm>
        </p:grpSpPr>
        <p:sp>
          <p:nvSpPr>
            <p:cNvPr id="762" name="Line 5"/>
            <p:cNvSpPr/>
            <p:nvPr/>
          </p:nvSpPr>
          <p:spPr>
            <a:xfrm>
              <a:off x="0" y="649440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 txBox="1"/>
            <p:nvPr/>
          </p:nvSpPr>
          <p:spPr>
            <a:xfrm>
              <a:off x="0" y="64944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WordArt 6"/>
          <p:cNvSpPr txBox="1"/>
          <p:nvPr/>
        </p:nvSpPr>
        <p:spPr>
          <a:xfrm>
            <a:off x="3375000" y="2282760"/>
            <a:ext cx="286056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Arial"/>
              </a:rPr>
              <a:t>m</a:t>
            </a:r>
            <a:endParaRPr b="0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2" descr="FR20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6" name="Text Box 3"/>
          <p:cNvSpPr/>
          <p:nvPr/>
        </p:nvSpPr>
        <p:spPr>
          <a:xfrm>
            <a:off x="1103400" y="230040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Arial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4"/>
          <p:cNvSpPr/>
          <p:nvPr/>
        </p:nvSpPr>
        <p:spPr>
          <a:xfrm>
            <a:off x="3787920" y="119700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Comic Sans MS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"/>
          <p:cNvSpPr/>
          <p:nvPr/>
        </p:nvSpPr>
        <p:spPr>
          <a:xfrm>
            <a:off x="3770280" y="21114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6"/>
          <p:cNvSpPr/>
          <p:nvPr/>
        </p:nvSpPr>
        <p:spPr>
          <a:xfrm>
            <a:off x="4216320" y="33400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Comic Sans MS"/>
              </a:rPr>
              <a:t>i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7"/>
          <p:cNvSpPr/>
          <p:nvPr/>
        </p:nvSpPr>
        <p:spPr>
          <a:xfrm>
            <a:off x="2747880" y="404496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Comic Sans MS"/>
              </a:rPr>
              <a:t>u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2058840" y="2106360"/>
            <a:ext cx="1803600" cy="755640"/>
            <a:chOff x="2058840" y="2106360"/>
            <a:chExt cx="1803600" cy="755640"/>
          </a:xfrm>
        </p:grpSpPr>
        <p:sp>
          <p:nvSpPr>
            <p:cNvPr id="772" name="Line 8"/>
            <p:cNvSpPr/>
            <p:nvPr/>
          </p:nvSpPr>
          <p:spPr>
            <a:xfrm flipV="1">
              <a:off x="2058840" y="2106360"/>
              <a:ext cx="1803600" cy="755640"/>
            </a:xfrm>
            <a:prstGeom prst="line">
              <a:avLst/>
            </a:prstGeom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 rot="10800000">
              <a:off x="2058840" y="2106360"/>
              <a:ext cx="1803600" cy="75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2127240" y="2858760"/>
            <a:ext cx="1574640" cy="174600"/>
            <a:chOff x="2127240" y="2858760"/>
            <a:chExt cx="1574640" cy="174600"/>
          </a:xfrm>
        </p:grpSpPr>
        <p:sp>
          <p:nvSpPr>
            <p:cNvPr id="775" name="Line 12"/>
            <p:cNvSpPr/>
            <p:nvPr/>
          </p:nvSpPr>
          <p:spPr>
            <a:xfrm flipV="1">
              <a:off x="2127240" y="2858760"/>
              <a:ext cx="1574640" cy="174600"/>
            </a:xfrm>
            <a:prstGeom prst="line">
              <a:avLst/>
            </a:prstGeom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 txBox="1"/>
            <p:nvPr/>
          </p:nvSpPr>
          <p:spPr>
            <a:xfrm rot="10800000">
              <a:off x="2127240" y="2858760"/>
              <a:ext cx="1574640" cy="1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2122560" y="3149640"/>
            <a:ext cx="2017800" cy="690480"/>
            <a:chOff x="2122560" y="3149640"/>
            <a:chExt cx="2017800" cy="690480"/>
          </a:xfrm>
        </p:grpSpPr>
        <p:sp>
          <p:nvSpPr>
            <p:cNvPr id="778" name="Line 13"/>
            <p:cNvSpPr/>
            <p:nvPr/>
          </p:nvSpPr>
          <p:spPr>
            <a:xfrm>
              <a:off x="2122560" y="3149640"/>
              <a:ext cx="2017800" cy="690480"/>
            </a:xfrm>
            <a:prstGeom prst="line">
              <a:avLst/>
            </a:prstGeom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2122560" y="3149640"/>
              <a:ext cx="2017800" cy="690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2136600" y="3290760"/>
            <a:ext cx="706680" cy="1117800"/>
            <a:chOff x="2136600" y="3290760"/>
            <a:chExt cx="706680" cy="1117800"/>
          </a:xfrm>
        </p:grpSpPr>
        <p:sp>
          <p:nvSpPr>
            <p:cNvPr id="781" name="Line 14"/>
            <p:cNvSpPr/>
            <p:nvPr/>
          </p:nvSpPr>
          <p:spPr>
            <a:xfrm>
              <a:off x="2136600" y="3290760"/>
              <a:ext cx="706680" cy="1117800"/>
            </a:xfrm>
            <a:prstGeom prst="line">
              <a:avLst/>
            </a:prstGeom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 txBox="1"/>
            <p:nvPr/>
          </p:nvSpPr>
          <p:spPr>
            <a:xfrm>
              <a:off x="2136600" y="3290760"/>
              <a:ext cx="706680" cy="111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Text Box 15"/>
          <p:cNvSpPr/>
          <p:nvPr/>
        </p:nvSpPr>
        <p:spPr>
          <a:xfrm>
            <a:off x="4659480" y="1087560"/>
            <a:ext cx="229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8000"/>
                </a:solidFill>
                <a:latin typeface="Comic Sans MS"/>
              </a:rPr>
              <a:t>m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16"/>
          <p:cNvSpPr/>
          <p:nvPr/>
        </p:nvSpPr>
        <p:spPr>
          <a:xfrm>
            <a:off x="4548240" y="2036880"/>
            <a:ext cx="229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26200"/>
                </a:solidFill>
                <a:latin typeface="Comic Sans MS"/>
              </a:rPr>
              <a:t>m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7"/>
          <p:cNvSpPr/>
          <p:nvPr/>
        </p:nvSpPr>
        <p:spPr>
          <a:xfrm>
            <a:off x="4987800" y="3159000"/>
            <a:ext cx="229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Comic Sans MS"/>
              </a:rPr>
              <a:t>mi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18"/>
          <p:cNvSpPr/>
          <p:nvPr/>
        </p:nvSpPr>
        <p:spPr>
          <a:xfrm>
            <a:off x="3395520" y="4005360"/>
            <a:ext cx="2941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9d8ec"/>
                </a:solidFill>
                <a:latin typeface="Comic Sans MS"/>
              </a:rPr>
              <a:t>  </a:t>
            </a:r>
            <a:r>
              <a:rPr b="0" lang="en-US" sz="8800" spc="-1" strike="noStrike">
                <a:solidFill>
                  <a:srgbClr val="d9d8ec"/>
                </a:solidFill>
                <a:latin typeface="Comic Sans MS"/>
              </a:rPr>
              <a:t>mu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9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9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9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"/>
          <p:cNvSpPr/>
          <p:nvPr/>
        </p:nvSpPr>
        <p:spPr>
          <a:xfrm>
            <a:off x="1805040" y="4359240"/>
            <a:ext cx="55627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0066"/>
                </a:solidFill>
                <a:latin typeface="宋体"/>
              </a:rPr>
              <a:t>mū mú mǔ mù</a:t>
            </a:r>
            <a:r>
              <a:rPr b="1" lang="en-US" sz="65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5"/>
          <p:cNvSpPr/>
          <p:nvPr/>
        </p:nvSpPr>
        <p:spPr>
          <a:xfrm>
            <a:off x="1805040" y="955800"/>
            <a:ext cx="60735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ff"/>
                </a:solidFill>
                <a:latin typeface="宋体"/>
              </a:rPr>
              <a:t>mā má mǎ mà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1805040" y="2179800"/>
            <a:ext cx="58532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33cc"/>
                </a:solidFill>
                <a:latin typeface="宋体"/>
              </a:rPr>
              <a:t>mō mó mǒ mò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1805040" y="3267000"/>
            <a:ext cx="59482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8000"/>
                </a:solidFill>
                <a:latin typeface="宋体"/>
              </a:rPr>
              <a:t>mī mí mǐ mì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3"/>
          <p:cNvSpPr/>
          <p:nvPr/>
        </p:nvSpPr>
        <p:spPr>
          <a:xfrm>
            <a:off x="2195640" y="3232080"/>
            <a:ext cx="662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宋体"/>
              </a:rPr>
              <a:t>mū mǐ mā mǎ</a:t>
            </a:r>
            <a:r>
              <a:rPr b="0" lang="en-US" sz="6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宋体"/>
              </a:rPr>
              <a:t>mǔ mó mō mī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4"/>
          <p:cNvSpPr/>
          <p:nvPr/>
        </p:nvSpPr>
        <p:spPr>
          <a:xfrm>
            <a:off x="1648080" y="1170000"/>
            <a:ext cx="593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cc"/>
                </a:solidFill>
                <a:latin typeface="宋体"/>
              </a:rPr>
              <a:t>mǒ má mú mà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1902600" y="2211480"/>
            <a:ext cx="542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宋体"/>
              </a:rPr>
              <a:t>mì mù mí mò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4" dur="5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9" dur="5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"/>
          <p:cNvGrpSpPr/>
          <p:nvPr/>
        </p:nvGrpSpPr>
        <p:grpSpPr>
          <a:xfrm>
            <a:off x="0" y="1782720"/>
            <a:ext cx="9144000" cy="360"/>
            <a:chOff x="0" y="1782720"/>
            <a:chExt cx="9144000" cy="360"/>
          </a:xfrm>
        </p:grpSpPr>
        <p:sp>
          <p:nvSpPr>
            <p:cNvPr id="795" name="Line 2"/>
            <p:cNvSpPr/>
            <p:nvPr/>
          </p:nvSpPr>
          <p:spPr>
            <a:xfrm>
              <a:off x="0" y="178272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 txBox="1"/>
            <p:nvPr/>
          </p:nvSpPr>
          <p:spPr>
            <a:xfrm>
              <a:off x="0" y="178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0" y="2989440"/>
            <a:ext cx="9144000" cy="360"/>
            <a:chOff x="0" y="2989440"/>
            <a:chExt cx="9144000" cy="360"/>
          </a:xfrm>
        </p:grpSpPr>
        <p:sp>
          <p:nvSpPr>
            <p:cNvPr id="798" name="Line 3"/>
            <p:cNvSpPr/>
            <p:nvPr/>
          </p:nvSpPr>
          <p:spPr>
            <a:xfrm>
              <a:off x="0" y="298944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 txBox="1"/>
            <p:nvPr/>
          </p:nvSpPr>
          <p:spPr>
            <a:xfrm>
              <a:off x="0" y="29894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0" y="2398680"/>
            <a:ext cx="9144000" cy="360"/>
            <a:chOff x="0" y="2398680"/>
            <a:chExt cx="9144000" cy="360"/>
          </a:xfrm>
        </p:grpSpPr>
        <p:sp>
          <p:nvSpPr>
            <p:cNvPr id="801" name="Line 4"/>
            <p:cNvSpPr/>
            <p:nvPr/>
          </p:nvSpPr>
          <p:spPr>
            <a:xfrm>
              <a:off x="0" y="239868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 txBox="1"/>
            <p:nvPr/>
          </p:nvSpPr>
          <p:spPr>
            <a:xfrm>
              <a:off x="0" y="23986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0" y="1187280"/>
            <a:ext cx="9144000" cy="360"/>
            <a:chOff x="0" y="1187280"/>
            <a:chExt cx="9144000" cy="360"/>
          </a:xfrm>
        </p:grpSpPr>
        <p:sp>
          <p:nvSpPr>
            <p:cNvPr id="804" name="Line 6"/>
            <p:cNvSpPr/>
            <p:nvPr/>
          </p:nvSpPr>
          <p:spPr>
            <a:xfrm>
              <a:off x="0" y="118728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 txBox="1"/>
            <p:nvPr/>
          </p:nvSpPr>
          <p:spPr>
            <a:xfrm>
              <a:off x="0" y="11872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Rectangle 7"/>
          <p:cNvSpPr/>
          <p:nvPr/>
        </p:nvSpPr>
        <p:spPr>
          <a:xfrm>
            <a:off x="-350640" y="1054080"/>
            <a:ext cx="8898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ff"/>
                </a:solidFill>
                <a:latin typeface="宋体"/>
              </a:rPr>
              <a:t>mǎ mò mǔ mà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0" y="4370400"/>
            <a:ext cx="9144000" cy="360"/>
            <a:chOff x="0" y="4370400"/>
            <a:chExt cx="9144000" cy="360"/>
          </a:xfrm>
        </p:grpSpPr>
        <p:sp>
          <p:nvSpPr>
            <p:cNvPr id="808" name="Line 8"/>
            <p:cNvSpPr/>
            <p:nvPr/>
          </p:nvSpPr>
          <p:spPr>
            <a:xfrm>
              <a:off x="0" y="4370400"/>
              <a:ext cx="9144000" cy="0"/>
            </a:xfrm>
            <a:prstGeom prst="line">
              <a:avLst/>
            </a:prstGeom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 txBox="1"/>
            <p:nvPr/>
          </p:nvSpPr>
          <p:spPr>
            <a:xfrm>
              <a:off x="0" y="43704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0" y="3780000"/>
            <a:ext cx="9144000" cy="360"/>
            <a:chOff x="0" y="3780000"/>
            <a:chExt cx="9144000" cy="360"/>
          </a:xfrm>
        </p:grpSpPr>
        <p:sp>
          <p:nvSpPr>
            <p:cNvPr id="811" name="Line 9"/>
            <p:cNvSpPr/>
            <p:nvPr/>
          </p:nvSpPr>
          <p:spPr>
            <a:xfrm>
              <a:off x="0" y="3780000"/>
              <a:ext cx="9144000" cy="0"/>
            </a:xfrm>
            <a:prstGeom prst="line">
              <a:avLst/>
            </a:prstGeom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 txBox="1"/>
            <p:nvPr/>
          </p:nvSpPr>
          <p:spPr>
            <a:xfrm>
              <a:off x="0" y="37800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0" y="5513400"/>
            <a:ext cx="9144000" cy="360"/>
            <a:chOff x="0" y="5513400"/>
            <a:chExt cx="9144000" cy="360"/>
          </a:xfrm>
        </p:grpSpPr>
        <p:sp>
          <p:nvSpPr>
            <p:cNvPr id="814" name="Line 10"/>
            <p:cNvSpPr/>
            <p:nvPr/>
          </p:nvSpPr>
          <p:spPr>
            <a:xfrm>
              <a:off x="0" y="5513400"/>
              <a:ext cx="9144000" cy="0"/>
            </a:xfrm>
            <a:prstGeom prst="line">
              <a:avLst/>
            </a:prstGeom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 txBox="1"/>
            <p:nvPr/>
          </p:nvSpPr>
          <p:spPr>
            <a:xfrm>
              <a:off x="0" y="55134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0" y="4989600"/>
            <a:ext cx="9144000" cy="360"/>
            <a:chOff x="0" y="4989600"/>
            <a:chExt cx="9144000" cy="360"/>
          </a:xfrm>
        </p:grpSpPr>
        <p:sp>
          <p:nvSpPr>
            <p:cNvPr id="817" name="Line 11"/>
            <p:cNvSpPr/>
            <p:nvPr/>
          </p:nvSpPr>
          <p:spPr>
            <a:xfrm>
              <a:off x="0" y="4989600"/>
              <a:ext cx="9144000" cy="0"/>
            </a:xfrm>
            <a:prstGeom prst="line">
              <a:avLst/>
            </a:prstGeom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 txBox="1"/>
            <p:nvPr/>
          </p:nvSpPr>
          <p:spPr>
            <a:xfrm>
              <a:off x="0" y="49896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Rectangle 12"/>
          <p:cNvSpPr/>
          <p:nvPr/>
        </p:nvSpPr>
        <p:spPr>
          <a:xfrm>
            <a:off x="536400" y="3648240"/>
            <a:ext cx="83743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ff"/>
                </a:solidFill>
                <a:latin typeface="宋体"/>
              </a:rPr>
              <a:t>mú mā mí mù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2" descr="拼音4"/>
          <p:cNvPicPr/>
          <p:nvPr/>
        </p:nvPicPr>
        <p:blipFill>
          <a:blip r:embed="rId1"/>
          <a:srcRect l="48004" t="21049" r="14721" b="53436"/>
          <a:stretch/>
        </p:blipFill>
        <p:spPr>
          <a:xfrm>
            <a:off x="0" y="0"/>
            <a:ext cx="7188120" cy="6856560"/>
          </a:xfrm>
          <a:prstGeom prst="rect">
            <a:avLst/>
          </a:prstGeom>
          <a:ln w="0">
            <a:noFill/>
          </a:ln>
        </p:spPr>
      </p:pic>
      <p:sp>
        <p:nvSpPr>
          <p:cNvPr id="821" name="Text Box 4"/>
          <p:cNvSpPr/>
          <p:nvPr/>
        </p:nvSpPr>
        <p:spPr>
          <a:xfrm>
            <a:off x="6002280" y="1365120"/>
            <a:ext cx="280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d9d8ec"/>
                </a:solidFill>
                <a:latin typeface="Times New Roman"/>
                <a:ea typeface="楷体_GB2312"/>
              </a:rPr>
              <a:t>大佛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5"/>
          <p:cNvSpPr/>
          <p:nvPr/>
        </p:nvSpPr>
        <p:spPr>
          <a:xfrm>
            <a:off x="5832360" y="318960"/>
            <a:ext cx="288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1" lang="en-US" sz="8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8800" spc="-1" strike="noStrike">
                <a:solidFill>
                  <a:srgbClr val="ff0000"/>
                </a:solidFill>
                <a:latin typeface="Calibri"/>
              </a:rPr>
              <a:t>fó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6"/>
          <p:cNvSpPr/>
          <p:nvPr/>
        </p:nvSpPr>
        <p:spPr>
          <a:xfrm>
            <a:off x="5084640" y="4560840"/>
            <a:ext cx="133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alibri"/>
              </a:rPr>
              <a:t>fó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7"/>
          <p:cNvSpPr/>
          <p:nvPr/>
        </p:nvSpPr>
        <p:spPr>
          <a:xfrm>
            <a:off x="6640560" y="4567320"/>
            <a:ext cx="87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8"/>
          <p:cNvSpPr/>
          <p:nvPr/>
        </p:nvSpPr>
        <p:spPr>
          <a:xfrm>
            <a:off x="7577280" y="4541760"/>
            <a:ext cx="133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alibri"/>
              </a:rPr>
              <a:t>ó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6170760" y="5408640"/>
            <a:ext cx="522000" cy="360"/>
            <a:chOff x="6170760" y="5408640"/>
            <a:chExt cx="522000" cy="360"/>
          </a:xfrm>
        </p:grpSpPr>
        <p:sp>
          <p:nvSpPr>
            <p:cNvPr id="827" name="Line 9"/>
            <p:cNvSpPr/>
            <p:nvPr/>
          </p:nvSpPr>
          <p:spPr>
            <a:xfrm>
              <a:off x="6170760" y="5408640"/>
              <a:ext cx="52200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 txBox="1"/>
            <p:nvPr/>
          </p:nvSpPr>
          <p:spPr>
            <a:xfrm>
              <a:off x="6170760" y="5408640"/>
              <a:ext cx="52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7286760" y="5370480"/>
            <a:ext cx="290520" cy="360"/>
            <a:chOff x="7286760" y="5370480"/>
            <a:chExt cx="290520" cy="360"/>
          </a:xfrm>
        </p:grpSpPr>
        <p:sp>
          <p:nvSpPr>
            <p:cNvPr id="830" name="Line 10"/>
            <p:cNvSpPr/>
            <p:nvPr/>
          </p:nvSpPr>
          <p:spPr>
            <a:xfrm>
              <a:off x="7286760" y="5370480"/>
              <a:ext cx="29052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 txBox="1"/>
            <p:nvPr/>
          </p:nvSpPr>
          <p:spPr>
            <a:xfrm>
              <a:off x="7286760" y="5370480"/>
              <a:ext cx="290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2" name="WordArt 11"/>
          <p:cNvSpPr txBox="1"/>
          <p:nvPr/>
        </p:nvSpPr>
        <p:spPr>
          <a:xfrm>
            <a:off x="2198520" y="496800"/>
            <a:ext cx="1409760" cy="30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Arial"/>
              </a:rPr>
              <a:t>f</a:t>
            </a:r>
            <a:endParaRPr b="0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33" name="WordArt 12"/>
          <p:cNvSpPr txBox="1"/>
          <p:nvPr/>
        </p:nvSpPr>
        <p:spPr>
          <a:xfrm>
            <a:off x="1311120" y="4087800"/>
            <a:ext cx="731880" cy="19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Arial"/>
              </a:rPr>
              <a:t>f</a:t>
            </a:r>
            <a:endParaRPr b="0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6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1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6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1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6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4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3"/>
          <p:cNvSpPr/>
          <p:nvPr/>
        </p:nvSpPr>
        <p:spPr>
          <a:xfrm>
            <a:off x="3778200" y="3514680"/>
            <a:ext cx="54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cc"/>
                </a:solidFill>
                <a:latin typeface="宋体"/>
              </a:rPr>
              <a:t>fū fú fǔ f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4"/>
          <p:cNvSpPr/>
          <p:nvPr/>
        </p:nvSpPr>
        <p:spPr>
          <a:xfrm>
            <a:off x="4262400" y="1268280"/>
            <a:ext cx="387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宋体"/>
              </a:rPr>
              <a:t>fā fá fǎ fà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"/>
          <p:cNvSpPr/>
          <p:nvPr/>
        </p:nvSpPr>
        <p:spPr>
          <a:xfrm>
            <a:off x="4189320" y="2289240"/>
            <a:ext cx="401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宋体"/>
              </a:rPr>
              <a:t>fō fó fǒ fò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6"/>
          <p:cNvSpPr/>
          <p:nvPr/>
        </p:nvSpPr>
        <p:spPr>
          <a:xfrm>
            <a:off x="1979640" y="106524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7"/>
          <p:cNvSpPr/>
          <p:nvPr/>
        </p:nvSpPr>
        <p:spPr>
          <a:xfrm>
            <a:off x="1990800" y="213372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8"/>
          <p:cNvSpPr/>
          <p:nvPr/>
        </p:nvSpPr>
        <p:spPr>
          <a:xfrm>
            <a:off x="1979640" y="335772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u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3"/>
          <p:cNvSpPr/>
          <p:nvPr/>
        </p:nvSpPr>
        <p:spPr>
          <a:xfrm>
            <a:off x="1625760" y="1413000"/>
            <a:ext cx="68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宋体"/>
              </a:rPr>
              <a:t>fǔ  fā  fǒ  fà fò  fá  fō  fú  fǎ  fó  fù  fū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"/>
          <p:cNvGrpSpPr/>
          <p:nvPr/>
        </p:nvGrpSpPr>
        <p:grpSpPr>
          <a:xfrm>
            <a:off x="0" y="527040"/>
            <a:ext cx="9144000" cy="360"/>
            <a:chOff x="0" y="527040"/>
            <a:chExt cx="9144000" cy="360"/>
          </a:xfrm>
        </p:grpSpPr>
        <p:sp>
          <p:nvSpPr>
            <p:cNvPr id="842" name="Line 2"/>
            <p:cNvSpPr/>
            <p:nvPr/>
          </p:nvSpPr>
          <p:spPr>
            <a:xfrm>
              <a:off x="0" y="52704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 txBox="1"/>
            <p:nvPr/>
          </p:nvSpPr>
          <p:spPr>
            <a:xfrm>
              <a:off x="0" y="5270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0" y="1982880"/>
            <a:ext cx="9144000" cy="360"/>
            <a:chOff x="0" y="1982880"/>
            <a:chExt cx="9144000" cy="360"/>
          </a:xfrm>
        </p:grpSpPr>
        <p:sp>
          <p:nvSpPr>
            <p:cNvPr id="845" name="Line 3"/>
            <p:cNvSpPr/>
            <p:nvPr/>
          </p:nvSpPr>
          <p:spPr>
            <a:xfrm>
              <a:off x="0" y="198288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 txBox="1"/>
            <p:nvPr/>
          </p:nvSpPr>
          <p:spPr>
            <a:xfrm>
              <a:off x="0" y="19828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0" y="1260360"/>
            <a:ext cx="9144000" cy="360"/>
            <a:chOff x="0" y="1260360"/>
            <a:chExt cx="9144000" cy="360"/>
          </a:xfrm>
        </p:grpSpPr>
        <p:sp>
          <p:nvSpPr>
            <p:cNvPr id="848" name="Line 4"/>
            <p:cNvSpPr/>
            <p:nvPr/>
          </p:nvSpPr>
          <p:spPr>
            <a:xfrm>
              <a:off x="0" y="126036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 txBox="1"/>
            <p:nvPr/>
          </p:nvSpPr>
          <p:spPr>
            <a:xfrm>
              <a:off x="0" y="12603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0" y="2933640"/>
            <a:ext cx="9144000" cy="360"/>
            <a:chOff x="0" y="2933640"/>
            <a:chExt cx="9144000" cy="360"/>
          </a:xfrm>
        </p:grpSpPr>
        <p:sp>
          <p:nvSpPr>
            <p:cNvPr id="851" name="Line 5"/>
            <p:cNvSpPr/>
            <p:nvPr/>
          </p:nvSpPr>
          <p:spPr>
            <a:xfrm>
              <a:off x="0" y="293364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 txBox="1"/>
            <p:nvPr/>
          </p:nvSpPr>
          <p:spPr>
            <a:xfrm>
              <a:off x="0" y="2933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0" y="5486400"/>
            <a:ext cx="9144000" cy="360"/>
            <a:chOff x="0" y="5486400"/>
            <a:chExt cx="9144000" cy="360"/>
          </a:xfrm>
        </p:grpSpPr>
        <p:sp>
          <p:nvSpPr>
            <p:cNvPr id="854" name="Line 8"/>
            <p:cNvSpPr/>
            <p:nvPr/>
          </p:nvSpPr>
          <p:spPr>
            <a:xfrm>
              <a:off x="0" y="548640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 txBox="1"/>
            <p:nvPr/>
          </p:nvSpPr>
          <p:spPr>
            <a:xfrm>
              <a:off x="0" y="54864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0" y="6383160"/>
            <a:ext cx="9144000" cy="360"/>
            <a:chOff x="0" y="6383160"/>
            <a:chExt cx="9144000" cy="360"/>
          </a:xfrm>
        </p:grpSpPr>
        <p:sp>
          <p:nvSpPr>
            <p:cNvPr id="857" name="Line 9"/>
            <p:cNvSpPr/>
            <p:nvPr/>
          </p:nvSpPr>
          <p:spPr>
            <a:xfrm>
              <a:off x="0" y="638316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 txBox="1"/>
            <p:nvPr/>
          </p:nvSpPr>
          <p:spPr>
            <a:xfrm>
              <a:off x="0" y="6383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0" y="4764240"/>
            <a:ext cx="9144000" cy="360"/>
            <a:chOff x="0" y="4764240"/>
            <a:chExt cx="9144000" cy="360"/>
          </a:xfrm>
        </p:grpSpPr>
        <p:sp>
          <p:nvSpPr>
            <p:cNvPr id="860" name="Line 10"/>
            <p:cNvSpPr/>
            <p:nvPr/>
          </p:nvSpPr>
          <p:spPr>
            <a:xfrm>
              <a:off x="0" y="476424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 txBox="1"/>
            <p:nvPr/>
          </p:nvSpPr>
          <p:spPr>
            <a:xfrm>
              <a:off x="0" y="47642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0" y="4000680"/>
            <a:ext cx="9144000" cy="360"/>
            <a:chOff x="0" y="4000680"/>
            <a:chExt cx="9144000" cy="360"/>
          </a:xfrm>
        </p:grpSpPr>
        <p:sp>
          <p:nvSpPr>
            <p:cNvPr id="863" name="Line 11"/>
            <p:cNvSpPr/>
            <p:nvPr/>
          </p:nvSpPr>
          <p:spPr>
            <a:xfrm>
              <a:off x="0" y="400068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 txBox="1"/>
            <p:nvPr/>
          </p:nvSpPr>
          <p:spPr>
            <a:xfrm>
              <a:off x="0" y="40006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Rectangle 12"/>
          <p:cNvSpPr/>
          <p:nvPr/>
        </p:nvSpPr>
        <p:spPr>
          <a:xfrm>
            <a:off x="185760" y="3814920"/>
            <a:ext cx="81313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ff"/>
                </a:solidFill>
                <a:latin typeface="宋体"/>
              </a:rPr>
              <a:t>fú fā fùfá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13"/>
          <p:cNvSpPr/>
          <p:nvPr/>
        </p:nvSpPr>
        <p:spPr>
          <a:xfrm>
            <a:off x="849960" y="306360"/>
            <a:ext cx="73267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ff"/>
                </a:solidFill>
                <a:latin typeface="宋体"/>
              </a:rPr>
              <a:t>fǔ fā fǒ fà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2" descr="NA01441_"/>
          <p:cNvPicPr/>
          <p:nvPr/>
        </p:nvPicPr>
        <p:blipFill>
          <a:blip r:embed="rId1"/>
          <a:stretch/>
        </p:blipFill>
        <p:spPr>
          <a:xfrm>
            <a:off x="217440" y="0"/>
            <a:ext cx="8751960" cy="6858000"/>
          </a:xfrm>
          <a:prstGeom prst="rect">
            <a:avLst/>
          </a:prstGeom>
          <a:ln w="0">
            <a:noFill/>
          </a:ln>
        </p:spPr>
      </p:pic>
      <p:sp>
        <p:nvSpPr>
          <p:cNvPr id="868" name="Oval 3"/>
          <p:cNvSpPr/>
          <p:nvPr/>
        </p:nvSpPr>
        <p:spPr>
          <a:xfrm>
            <a:off x="1995480" y="2540160"/>
            <a:ext cx="993960" cy="892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4"/>
          <p:cNvSpPr/>
          <p:nvPr/>
        </p:nvSpPr>
        <p:spPr>
          <a:xfrm>
            <a:off x="2046240" y="1285920"/>
            <a:ext cx="1211400" cy="10652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隶书"/>
              </a:rPr>
              <a:t>b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Oval 5"/>
          <p:cNvSpPr/>
          <p:nvPr/>
        </p:nvSpPr>
        <p:spPr>
          <a:xfrm>
            <a:off x="2976480" y="225360"/>
            <a:ext cx="1138320" cy="993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宋体"/>
              </a:rPr>
              <a:t>f</a:t>
            </a:r>
            <a:r>
              <a:rPr b="1" lang="en-US" sz="6000" spc="-1" strike="noStrike">
                <a:solidFill>
                  <a:srgbClr val="ffff00"/>
                </a:solidFill>
                <a:latin typeface="宋体"/>
              </a:rPr>
              <a:t>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6"/>
          <p:cNvSpPr/>
          <p:nvPr/>
        </p:nvSpPr>
        <p:spPr>
          <a:xfrm>
            <a:off x="3751200" y="1660680"/>
            <a:ext cx="1038240" cy="936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m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Oval 7"/>
          <p:cNvSpPr/>
          <p:nvPr/>
        </p:nvSpPr>
        <p:spPr>
          <a:xfrm>
            <a:off x="5189400" y="189000"/>
            <a:ext cx="936720" cy="9064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b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8"/>
          <p:cNvSpPr/>
          <p:nvPr/>
        </p:nvSpPr>
        <p:spPr>
          <a:xfrm>
            <a:off x="4788000" y="1152360"/>
            <a:ext cx="936360" cy="951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Oval 9"/>
          <p:cNvSpPr/>
          <p:nvPr/>
        </p:nvSpPr>
        <p:spPr>
          <a:xfrm>
            <a:off x="5692680" y="1916280"/>
            <a:ext cx="1168560" cy="995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m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Oval 10"/>
          <p:cNvSpPr/>
          <p:nvPr/>
        </p:nvSpPr>
        <p:spPr>
          <a:xfrm>
            <a:off x="6588000" y="760320"/>
            <a:ext cx="1081080" cy="1054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  <a:ea typeface="楷体_GB2312"/>
              </a:rPr>
              <a:t>p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Oval 11"/>
          <p:cNvSpPr/>
          <p:nvPr/>
        </p:nvSpPr>
        <p:spPr>
          <a:xfrm>
            <a:off x="7091280" y="1989000"/>
            <a:ext cx="1141560" cy="12258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p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Group 12"/>
          <p:cNvGrpSpPr/>
          <p:nvPr/>
        </p:nvGrpSpPr>
        <p:grpSpPr>
          <a:xfrm>
            <a:off x="957240" y="4365720"/>
            <a:ext cx="2533680" cy="2539440"/>
            <a:chOff x="957240" y="4365720"/>
            <a:chExt cx="2533680" cy="2539440"/>
          </a:xfrm>
        </p:grpSpPr>
        <p:sp>
          <p:nvSpPr>
            <p:cNvPr id="878" name="AutoShape 13"/>
            <p:cNvSpPr/>
            <p:nvPr/>
          </p:nvSpPr>
          <p:spPr>
            <a:xfrm rot="2343600">
              <a:off x="1331640" y="4723920"/>
              <a:ext cx="1784160" cy="18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Freeform 14"/>
            <p:cNvSpPr/>
            <p:nvPr/>
          </p:nvSpPr>
          <p:spPr>
            <a:xfrm rot="2343600">
              <a:off x="1573200" y="4725720"/>
              <a:ext cx="1547640" cy="1140120"/>
            </a:xfrm>
            <a:custGeom>
              <a:avLst/>
              <a:gdLst/>
              <a:ahLst/>
              <a:rect l="l" t="t" r="r" b="b"/>
              <a:pathLst>
                <a:path w="1951" h="1435">
                  <a:moveTo>
                    <a:pt x="0" y="1434"/>
                  </a:moveTo>
                  <a:lnTo>
                    <a:pt x="716" y="1435"/>
                  </a:lnTo>
                  <a:lnTo>
                    <a:pt x="716" y="894"/>
                  </a:lnTo>
                  <a:lnTo>
                    <a:pt x="1329" y="894"/>
                  </a:lnTo>
                  <a:lnTo>
                    <a:pt x="1329" y="441"/>
                  </a:lnTo>
                  <a:lnTo>
                    <a:pt x="1471" y="441"/>
                  </a:lnTo>
                  <a:lnTo>
                    <a:pt x="1471" y="256"/>
                  </a:lnTo>
                  <a:lnTo>
                    <a:pt x="1812" y="256"/>
                  </a:lnTo>
                  <a:lnTo>
                    <a:pt x="1812" y="441"/>
                  </a:lnTo>
                  <a:lnTo>
                    <a:pt x="1951" y="441"/>
                  </a:lnTo>
                  <a:lnTo>
                    <a:pt x="1870" y="0"/>
                  </a:lnTo>
                  <a:lnTo>
                    <a:pt x="1853" y="1"/>
                  </a:lnTo>
                  <a:lnTo>
                    <a:pt x="1838" y="2"/>
                  </a:lnTo>
                  <a:lnTo>
                    <a:pt x="1825" y="3"/>
                  </a:lnTo>
                  <a:lnTo>
                    <a:pt x="1814" y="6"/>
                  </a:lnTo>
                  <a:lnTo>
                    <a:pt x="1805" y="7"/>
                  </a:lnTo>
                  <a:lnTo>
                    <a:pt x="1795" y="8"/>
                  </a:lnTo>
                  <a:lnTo>
                    <a:pt x="1787" y="10"/>
                  </a:lnTo>
                  <a:lnTo>
                    <a:pt x="1779" y="12"/>
                  </a:lnTo>
                  <a:lnTo>
                    <a:pt x="1737" y="21"/>
                  </a:lnTo>
                  <a:lnTo>
                    <a:pt x="1692" y="31"/>
                  </a:lnTo>
                  <a:lnTo>
                    <a:pt x="1645" y="44"/>
                  </a:lnTo>
                  <a:lnTo>
                    <a:pt x="1595" y="58"/>
                  </a:lnTo>
                  <a:lnTo>
                    <a:pt x="1546" y="73"/>
                  </a:lnTo>
                  <a:lnTo>
                    <a:pt x="1493" y="90"/>
                  </a:lnTo>
                  <a:lnTo>
                    <a:pt x="1440" y="109"/>
                  </a:lnTo>
                  <a:lnTo>
                    <a:pt x="1384" y="130"/>
                  </a:lnTo>
                  <a:lnTo>
                    <a:pt x="1329" y="153"/>
                  </a:lnTo>
                  <a:lnTo>
                    <a:pt x="1271" y="179"/>
                  </a:lnTo>
                  <a:lnTo>
                    <a:pt x="1214" y="205"/>
                  </a:lnTo>
                  <a:lnTo>
                    <a:pt x="1155" y="235"/>
                  </a:lnTo>
                  <a:lnTo>
                    <a:pt x="1095" y="267"/>
                  </a:lnTo>
                  <a:lnTo>
                    <a:pt x="1035" y="301"/>
                  </a:lnTo>
                  <a:lnTo>
                    <a:pt x="974" y="338"/>
                  </a:lnTo>
                  <a:lnTo>
                    <a:pt x="914" y="377"/>
                  </a:lnTo>
                  <a:lnTo>
                    <a:pt x="853" y="419"/>
                  </a:lnTo>
                  <a:lnTo>
                    <a:pt x="791" y="464"/>
                  </a:lnTo>
                  <a:lnTo>
                    <a:pt x="730" y="513"/>
                  </a:lnTo>
                  <a:lnTo>
                    <a:pt x="670" y="563"/>
                  </a:lnTo>
                  <a:lnTo>
                    <a:pt x="609" y="616"/>
                  </a:lnTo>
                  <a:lnTo>
                    <a:pt x="549" y="674"/>
                  </a:lnTo>
                  <a:lnTo>
                    <a:pt x="489" y="734"/>
                  </a:lnTo>
                  <a:lnTo>
                    <a:pt x="431" y="797"/>
                  </a:lnTo>
                  <a:lnTo>
                    <a:pt x="373" y="864"/>
                  </a:lnTo>
                  <a:lnTo>
                    <a:pt x="316" y="934"/>
                  </a:lnTo>
                  <a:lnTo>
                    <a:pt x="260" y="1008"/>
                  </a:lnTo>
                  <a:lnTo>
                    <a:pt x="205" y="1086"/>
                  </a:lnTo>
                  <a:lnTo>
                    <a:pt x="151" y="1167"/>
                  </a:lnTo>
                  <a:lnTo>
                    <a:pt x="99" y="1252"/>
                  </a:lnTo>
                  <a:lnTo>
                    <a:pt x="48" y="1341"/>
                  </a:lnTo>
                  <a:lnTo>
                    <a:pt x="0" y="1434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Rectangle 15"/>
            <p:cNvSpPr/>
            <p:nvPr/>
          </p:nvSpPr>
          <p:spPr>
            <a:xfrm rot="2343600">
              <a:off x="2078280" y="5993640"/>
              <a:ext cx="7308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16"/>
            <p:cNvSpPr/>
            <p:nvPr/>
          </p:nvSpPr>
          <p:spPr>
            <a:xfrm rot="2343600">
              <a:off x="1653840" y="5650560"/>
              <a:ext cx="763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Rectangle 17"/>
            <p:cNvSpPr/>
            <p:nvPr/>
          </p:nvSpPr>
          <p:spPr>
            <a:xfrm rot="2343600">
              <a:off x="1529640" y="5549040"/>
              <a:ext cx="745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18"/>
            <p:cNvSpPr/>
            <p:nvPr/>
          </p:nvSpPr>
          <p:spPr>
            <a:xfrm rot="2343600">
              <a:off x="1405080" y="5448240"/>
              <a:ext cx="7596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19"/>
            <p:cNvSpPr/>
            <p:nvPr/>
          </p:nvSpPr>
          <p:spPr>
            <a:xfrm rot="2343600">
              <a:off x="2207160" y="6099840"/>
              <a:ext cx="763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Rectangle 20"/>
            <p:cNvSpPr/>
            <p:nvPr/>
          </p:nvSpPr>
          <p:spPr>
            <a:xfrm rot="2343600">
              <a:off x="2338200" y="6205680"/>
              <a:ext cx="7596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Rectangle 21"/>
            <p:cNvSpPr/>
            <p:nvPr/>
          </p:nvSpPr>
          <p:spPr>
            <a:xfrm rot="2343600">
              <a:off x="2468520" y="577800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Rectangle 22"/>
            <p:cNvSpPr/>
            <p:nvPr/>
          </p:nvSpPr>
          <p:spPr>
            <a:xfrm rot="2343600">
              <a:off x="2599200" y="588384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Rectangle 23"/>
            <p:cNvSpPr/>
            <p:nvPr/>
          </p:nvSpPr>
          <p:spPr>
            <a:xfrm rot="2343600">
              <a:off x="2574720" y="564696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Rectangle 24"/>
            <p:cNvSpPr/>
            <p:nvPr/>
          </p:nvSpPr>
          <p:spPr>
            <a:xfrm rot="2343600">
              <a:off x="2705400" y="575280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25"/>
            <p:cNvSpPr/>
            <p:nvPr/>
          </p:nvSpPr>
          <p:spPr>
            <a:xfrm rot="2343600">
              <a:off x="2212200" y="556992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Rectangle 26"/>
            <p:cNvSpPr/>
            <p:nvPr/>
          </p:nvSpPr>
          <p:spPr>
            <a:xfrm rot="2343600">
              <a:off x="2342520" y="5675040"/>
              <a:ext cx="7488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Rectangle 27"/>
            <p:cNvSpPr/>
            <p:nvPr/>
          </p:nvSpPr>
          <p:spPr>
            <a:xfrm rot="2343600">
              <a:off x="2087640" y="546876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Rectangle 28"/>
            <p:cNvSpPr/>
            <p:nvPr/>
          </p:nvSpPr>
          <p:spPr>
            <a:xfrm rot="2343600">
              <a:off x="2369520" y="589968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Rectangle 29"/>
            <p:cNvSpPr/>
            <p:nvPr/>
          </p:nvSpPr>
          <p:spPr>
            <a:xfrm rot="2343600">
              <a:off x="2500200" y="600552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Rectangle 30"/>
            <p:cNvSpPr/>
            <p:nvPr/>
          </p:nvSpPr>
          <p:spPr>
            <a:xfrm rot="2343600">
              <a:off x="2113200" y="569196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Rectangle 31"/>
            <p:cNvSpPr/>
            <p:nvPr/>
          </p:nvSpPr>
          <p:spPr>
            <a:xfrm rot="2343600">
              <a:off x="2243880" y="5797080"/>
              <a:ext cx="7488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Rectangle 32"/>
            <p:cNvSpPr/>
            <p:nvPr/>
          </p:nvSpPr>
          <p:spPr>
            <a:xfrm rot="2343600">
              <a:off x="1988640" y="559044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Rectangle 33"/>
            <p:cNvSpPr/>
            <p:nvPr/>
          </p:nvSpPr>
          <p:spPr>
            <a:xfrm rot="2343600">
              <a:off x="2679840" y="5517720"/>
              <a:ext cx="76320" cy="7488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Rectangle 34"/>
            <p:cNvSpPr/>
            <p:nvPr/>
          </p:nvSpPr>
          <p:spPr>
            <a:xfrm rot="2343600">
              <a:off x="2810880" y="5623920"/>
              <a:ext cx="75960" cy="7488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35"/>
            <p:cNvSpPr/>
            <p:nvPr/>
          </p:nvSpPr>
          <p:spPr>
            <a:xfrm rot="2343600">
              <a:off x="2719440" y="5705640"/>
              <a:ext cx="204840" cy="892080"/>
            </a:xfrm>
            <a:custGeom>
              <a:avLst/>
              <a:gdLst/>
              <a:ahLst/>
              <a:rect l="l" t="t" r="r" b="b"/>
              <a:pathLst>
                <a:path w="258" h="1124">
                  <a:moveTo>
                    <a:pt x="258" y="1124"/>
                  </a:moveTo>
                  <a:lnTo>
                    <a:pt x="0" y="0"/>
                  </a:lnTo>
                  <a:lnTo>
                    <a:pt x="1" y="1124"/>
                  </a:lnTo>
                  <a:lnTo>
                    <a:pt x="258" y="1124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36"/>
            <p:cNvSpPr/>
            <p:nvPr/>
          </p:nvSpPr>
          <p:spPr>
            <a:xfrm rot="2343600">
              <a:off x="1002960" y="5753160"/>
              <a:ext cx="1517760" cy="595440"/>
            </a:xfrm>
            <a:custGeom>
              <a:avLst/>
              <a:gdLst/>
              <a:ahLst/>
              <a:rect l="l" t="t" r="r" b="b"/>
              <a:pathLst>
                <a:path w="1912" h="750">
                  <a:moveTo>
                    <a:pt x="1912" y="265"/>
                  </a:moveTo>
                  <a:lnTo>
                    <a:pt x="1106" y="263"/>
                  </a:lnTo>
                  <a:lnTo>
                    <a:pt x="1106" y="0"/>
                  </a:lnTo>
                  <a:lnTo>
                    <a:pt x="989" y="0"/>
                  </a:lnTo>
                  <a:lnTo>
                    <a:pt x="989" y="264"/>
                  </a:lnTo>
                  <a:lnTo>
                    <a:pt x="919" y="264"/>
                  </a:lnTo>
                  <a:lnTo>
                    <a:pt x="919" y="0"/>
                  </a:lnTo>
                  <a:lnTo>
                    <a:pt x="803" y="0"/>
                  </a:lnTo>
                  <a:lnTo>
                    <a:pt x="803" y="263"/>
                  </a:lnTo>
                  <a:lnTo>
                    <a:pt x="0" y="259"/>
                  </a:lnTo>
                  <a:lnTo>
                    <a:pt x="0" y="339"/>
                  </a:lnTo>
                  <a:lnTo>
                    <a:pt x="1334" y="338"/>
                  </a:lnTo>
                  <a:lnTo>
                    <a:pt x="1334" y="407"/>
                  </a:lnTo>
                  <a:lnTo>
                    <a:pt x="415" y="407"/>
                  </a:lnTo>
                  <a:lnTo>
                    <a:pt x="415" y="487"/>
                  </a:lnTo>
                  <a:lnTo>
                    <a:pt x="921" y="487"/>
                  </a:lnTo>
                  <a:lnTo>
                    <a:pt x="1383" y="750"/>
                  </a:lnTo>
                  <a:lnTo>
                    <a:pt x="1399" y="724"/>
                  </a:lnTo>
                  <a:lnTo>
                    <a:pt x="1415" y="696"/>
                  </a:lnTo>
                  <a:lnTo>
                    <a:pt x="1434" y="669"/>
                  </a:lnTo>
                  <a:lnTo>
                    <a:pt x="1452" y="644"/>
                  </a:lnTo>
                  <a:lnTo>
                    <a:pt x="1471" y="619"/>
                  </a:lnTo>
                  <a:lnTo>
                    <a:pt x="1491" y="593"/>
                  </a:lnTo>
                  <a:lnTo>
                    <a:pt x="1512" y="569"/>
                  </a:lnTo>
                  <a:lnTo>
                    <a:pt x="1533" y="545"/>
                  </a:lnTo>
                  <a:lnTo>
                    <a:pt x="1590" y="486"/>
                  </a:lnTo>
                  <a:lnTo>
                    <a:pt x="1605" y="474"/>
                  </a:lnTo>
                  <a:lnTo>
                    <a:pt x="1622" y="460"/>
                  </a:lnTo>
                  <a:lnTo>
                    <a:pt x="1639" y="445"/>
                  </a:lnTo>
                  <a:lnTo>
                    <a:pt x="1658" y="430"/>
                  </a:lnTo>
                  <a:lnTo>
                    <a:pt x="1679" y="415"/>
                  </a:lnTo>
                  <a:lnTo>
                    <a:pt x="1700" y="399"/>
                  </a:lnTo>
                  <a:lnTo>
                    <a:pt x="1723" y="384"/>
                  </a:lnTo>
                  <a:lnTo>
                    <a:pt x="1745" y="368"/>
                  </a:lnTo>
                  <a:lnTo>
                    <a:pt x="1768" y="353"/>
                  </a:lnTo>
                  <a:lnTo>
                    <a:pt x="1791" y="338"/>
                  </a:lnTo>
                  <a:lnTo>
                    <a:pt x="1813" y="323"/>
                  </a:lnTo>
                  <a:lnTo>
                    <a:pt x="1835" y="309"/>
                  </a:lnTo>
                  <a:lnTo>
                    <a:pt x="1855" y="296"/>
                  </a:lnTo>
                  <a:lnTo>
                    <a:pt x="1876" y="285"/>
                  </a:lnTo>
                  <a:lnTo>
                    <a:pt x="1895" y="274"/>
                  </a:lnTo>
                  <a:lnTo>
                    <a:pt x="1912" y="265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37"/>
          <p:cNvGrpSpPr/>
          <p:nvPr/>
        </p:nvGrpSpPr>
        <p:grpSpPr>
          <a:xfrm>
            <a:off x="6084720" y="4222800"/>
            <a:ext cx="2533680" cy="2539440"/>
            <a:chOff x="6084720" y="4222800"/>
            <a:chExt cx="2533680" cy="2539440"/>
          </a:xfrm>
        </p:grpSpPr>
        <p:sp>
          <p:nvSpPr>
            <p:cNvPr id="903" name="AutoShape 38"/>
            <p:cNvSpPr/>
            <p:nvPr/>
          </p:nvSpPr>
          <p:spPr>
            <a:xfrm rot="2343600">
              <a:off x="6459120" y="4581000"/>
              <a:ext cx="1784160" cy="18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39"/>
            <p:cNvSpPr/>
            <p:nvPr/>
          </p:nvSpPr>
          <p:spPr>
            <a:xfrm rot="2343600">
              <a:off x="6700680" y="4582800"/>
              <a:ext cx="1547640" cy="1140120"/>
            </a:xfrm>
            <a:custGeom>
              <a:avLst/>
              <a:gdLst/>
              <a:ahLst/>
              <a:rect l="l" t="t" r="r" b="b"/>
              <a:pathLst>
                <a:path w="1951" h="1435">
                  <a:moveTo>
                    <a:pt x="0" y="1434"/>
                  </a:moveTo>
                  <a:lnTo>
                    <a:pt x="716" y="1435"/>
                  </a:lnTo>
                  <a:lnTo>
                    <a:pt x="716" y="894"/>
                  </a:lnTo>
                  <a:lnTo>
                    <a:pt x="1329" y="894"/>
                  </a:lnTo>
                  <a:lnTo>
                    <a:pt x="1329" y="441"/>
                  </a:lnTo>
                  <a:lnTo>
                    <a:pt x="1471" y="441"/>
                  </a:lnTo>
                  <a:lnTo>
                    <a:pt x="1471" y="256"/>
                  </a:lnTo>
                  <a:lnTo>
                    <a:pt x="1812" y="256"/>
                  </a:lnTo>
                  <a:lnTo>
                    <a:pt x="1812" y="441"/>
                  </a:lnTo>
                  <a:lnTo>
                    <a:pt x="1951" y="441"/>
                  </a:lnTo>
                  <a:lnTo>
                    <a:pt x="1870" y="0"/>
                  </a:lnTo>
                  <a:lnTo>
                    <a:pt x="1853" y="1"/>
                  </a:lnTo>
                  <a:lnTo>
                    <a:pt x="1838" y="2"/>
                  </a:lnTo>
                  <a:lnTo>
                    <a:pt x="1825" y="3"/>
                  </a:lnTo>
                  <a:lnTo>
                    <a:pt x="1814" y="6"/>
                  </a:lnTo>
                  <a:lnTo>
                    <a:pt x="1805" y="7"/>
                  </a:lnTo>
                  <a:lnTo>
                    <a:pt x="1795" y="8"/>
                  </a:lnTo>
                  <a:lnTo>
                    <a:pt x="1787" y="10"/>
                  </a:lnTo>
                  <a:lnTo>
                    <a:pt x="1779" y="12"/>
                  </a:lnTo>
                  <a:lnTo>
                    <a:pt x="1737" y="21"/>
                  </a:lnTo>
                  <a:lnTo>
                    <a:pt x="1692" y="31"/>
                  </a:lnTo>
                  <a:lnTo>
                    <a:pt x="1645" y="44"/>
                  </a:lnTo>
                  <a:lnTo>
                    <a:pt x="1595" y="58"/>
                  </a:lnTo>
                  <a:lnTo>
                    <a:pt x="1546" y="73"/>
                  </a:lnTo>
                  <a:lnTo>
                    <a:pt x="1493" y="90"/>
                  </a:lnTo>
                  <a:lnTo>
                    <a:pt x="1440" y="109"/>
                  </a:lnTo>
                  <a:lnTo>
                    <a:pt x="1384" y="130"/>
                  </a:lnTo>
                  <a:lnTo>
                    <a:pt x="1329" y="153"/>
                  </a:lnTo>
                  <a:lnTo>
                    <a:pt x="1271" y="179"/>
                  </a:lnTo>
                  <a:lnTo>
                    <a:pt x="1214" y="205"/>
                  </a:lnTo>
                  <a:lnTo>
                    <a:pt x="1155" y="235"/>
                  </a:lnTo>
                  <a:lnTo>
                    <a:pt x="1095" y="267"/>
                  </a:lnTo>
                  <a:lnTo>
                    <a:pt x="1035" y="301"/>
                  </a:lnTo>
                  <a:lnTo>
                    <a:pt x="974" y="338"/>
                  </a:lnTo>
                  <a:lnTo>
                    <a:pt x="914" y="377"/>
                  </a:lnTo>
                  <a:lnTo>
                    <a:pt x="853" y="419"/>
                  </a:lnTo>
                  <a:lnTo>
                    <a:pt x="791" y="464"/>
                  </a:lnTo>
                  <a:lnTo>
                    <a:pt x="730" y="513"/>
                  </a:lnTo>
                  <a:lnTo>
                    <a:pt x="670" y="563"/>
                  </a:lnTo>
                  <a:lnTo>
                    <a:pt x="609" y="616"/>
                  </a:lnTo>
                  <a:lnTo>
                    <a:pt x="549" y="674"/>
                  </a:lnTo>
                  <a:lnTo>
                    <a:pt x="489" y="734"/>
                  </a:lnTo>
                  <a:lnTo>
                    <a:pt x="431" y="797"/>
                  </a:lnTo>
                  <a:lnTo>
                    <a:pt x="373" y="864"/>
                  </a:lnTo>
                  <a:lnTo>
                    <a:pt x="316" y="934"/>
                  </a:lnTo>
                  <a:lnTo>
                    <a:pt x="260" y="1008"/>
                  </a:lnTo>
                  <a:lnTo>
                    <a:pt x="205" y="1086"/>
                  </a:lnTo>
                  <a:lnTo>
                    <a:pt x="151" y="1167"/>
                  </a:lnTo>
                  <a:lnTo>
                    <a:pt x="99" y="1252"/>
                  </a:lnTo>
                  <a:lnTo>
                    <a:pt x="48" y="1341"/>
                  </a:lnTo>
                  <a:lnTo>
                    <a:pt x="0" y="1434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Rectangle 40"/>
            <p:cNvSpPr/>
            <p:nvPr/>
          </p:nvSpPr>
          <p:spPr>
            <a:xfrm rot="2343600">
              <a:off x="7205760" y="5850720"/>
              <a:ext cx="7308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Rectangle 41"/>
            <p:cNvSpPr/>
            <p:nvPr/>
          </p:nvSpPr>
          <p:spPr>
            <a:xfrm rot="2343600">
              <a:off x="6781320" y="5507640"/>
              <a:ext cx="763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Rectangle 42"/>
            <p:cNvSpPr/>
            <p:nvPr/>
          </p:nvSpPr>
          <p:spPr>
            <a:xfrm rot="2343600">
              <a:off x="6657120" y="5406120"/>
              <a:ext cx="745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Rectangle 43"/>
            <p:cNvSpPr/>
            <p:nvPr/>
          </p:nvSpPr>
          <p:spPr>
            <a:xfrm rot="2343600">
              <a:off x="6532560" y="5305320"/>
              <a:ext cx="7596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44"/>
            <p:cNvSpPr/>
            <p:nvPr/>
          </p:nvSpPr>
          <p:spPr>
            <a:xfrm rot="2343600">
              <a:off x="7334640" y="5956920"/>
              <a:ext cx="763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45"/>
            <p:cNvSpPr/>
            <p:nvPr/>
          </p:nvSpPr>
          <p:spPr>
            <a:xfrm rot="2343600">
              <a:off x="7465680" y="6062760"/>
              <a:ext cx="7596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46"/>
            <p:cNvSpPr/>
            <p:nvPr/>
          </p:nvSpPr>
          <p:spPr>
            <a:xfrm rot="2343600">
              <a:off x="7596000" y="563508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Rectangle 47"/>
            <p:cNvSpPr/>
            <p:nvPr/>
          </p:nvSpPr>
          <p:spPr>
            <a:xfrm rot="2343600">
              <a:off x="7726680" y="574092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48"/>
            <p:cNvSpPr/>
            <p:nvPr/>
          </p:nvSpPr>
          <p:spPr>
            <a:xfrm rot="2343600">
              <a:off x="7702200" y="550404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49"/>
            <p:cNvSpPr/>
            <p:nvPr/>
          </p:nvSpPr>
          <p:spPr>
            <a:xfrm rot="2343600">
              <a:off x="7832880" y="560988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Rectangle 50"/>
            <p:cNvSpPr/>
            <p:nvPr/>
          </p:nvSpPr>
          <p:spPr>
            <a:xfrm rot="2343600">
              <a:off x="7339680" y="542700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Rectangle 51"/>
            <p:cNvSpPr/>
            <p:nvPr/>
          </p:nvSpPr>
          <p:spPr>
            <a:xfrm rot="2343600">
              <a:off x="7470000" y="5532120"/>
              <a:ext cx="7488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Rectangle 52"/>
            <p:cNvSpPr/>
            <p:nvPr/>
          </p:nvSpPr>
          <p:spPr>
            <a:xfrm rot="2343600">
              <a:off x="7215120" y="532584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Rectangle 53"/>
            <p:cNvSpPr/>
            <p:nvPr/>
          </p:nvSpPr>
          <p:spPr>
            <a:xfrm rot="2343600">
              <a:off x="7497000" y="575676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Rectangle 54"/>
            <p:cNvSpPr/>
            <p:nvPr/>
          </p:nvSpPr>
          <p:spPr>
            <a:xfrm rot="2343600">
              <a:off x="7627680" y="586260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Rectangle 55"/>
            <p:cNvSpPr/>
            <p:nvPr/>
          </p:nvSpPr>
          <p:spPr>
            <a:xfrm rot="2343600">
              <a:off x="7240680" y="554904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Rectangle 56"/>
            <p:cNvSpPr/>
            <p:nvPr/>
          </p:nvSpPr>
          <p:spPr>
            <a:xfrm rot="2343600">
              <a:off x="7371360" y="5654160"/>
              <a:ext cx="7488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Rectangle 57"/>
            <p:cNvSpPr/>
            <p:nvPr/>
          </p:nvSpPr>
          <p:spPr>
            <a:xfrm rot="2343600">
              <a:off x="7116120" y="544752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Rectangle 58"/>
            <p:cNvSpPr/>
            <p:nvPr/>
          </p:nvSpPr>
          <p:spPr>
            <a:xfrm rot="2343600">
              <a:off x="7807320" y="5374800"/>
              <a:ext cx="76320" cy="7488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Rectangle 59"/>
            <p:cNvSpPr/>
            <p:nvPr/>
          </p:nvSpPr>
          <p:spPr>
            <a:xfrm rot="2343600">
              <a:off x="7938360" y="5481000"/>
              <a:ext cx="75960" cy="7488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Freeform 60"/>
            <p:cNvSpPr/>
            <p:nvPr/>
          </p:nvSpPr>
          <p:spPr>
            <a:xfrm rot="2343600">
              <a:off x="7846920" y="5562720"/>
              <a:ext cx="204840" cy="892080"/>
            </a:xfrm>
            <a:custGeom>
              <a:avLst/>
              <a:gdLst/>
              <a:ahLst/>
              <a:rect l="l" t="t" r="r" b="b"/>
              <a:pathLst>
                <a:path w="258" h="1124">
                  <a:moveTo>
                    <a:pt x="258" y="1124"/>
                  </a:moveTo>
                  <a:lnTo>
                    <a:pt x="0" y="0"/>
                  </a:lnTo>
                  <a:lnTo>
                    <a:pt x="1" y="1124"/>
                  </a:lnTo>
                  <a:lnTo>
                    <a:pt x="258" y="1124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Freeform 61"/>
            <p:cNvSpPr/>
            <p:nvPr/>
          </p:nvSpPr>
          <p:spPr>
            <a:xfrm rot="2343600">
              <a:off x="6130440" y="5610240"/>
              <a:ext cx="1517760" cy="595440"/>
            </a:xfrm>
            <a:custGeom>
              <a:avLst/>
              <a:gdLst/>
              <a:ahLst/>
              <a:rect l="l" t="t" r="r" b="b"/>
              <a:pathLst>
                <a:path w="1912" h="750">
                  <a:moveTo>
                    <a:pt x="1912" y="265"/>
                  </a:moveTo>
                  <a:lnTo>
                    <a:pt x="1106" y="263"/>
                  </a:lnTo>
                  <a:lnTo>
                    <a:pt x="1106" y="0"/>
                  </a:lnTo>
                  <a:lnTo>
                    <a:pt x="989" y="0"/>
                  </a:lnTo>
                  <a:lnTo>
                    <a:pt x="989" y="264"/>
                  </a:lnTo>
                  <a:lnTo>
                    <a:pt x="919" y="264"/>
                  </a:lnTo>
                  <a:lnTo>
                    <a:pt x="919" y="0"/>
                  </a:lnTo>
                  <a:lnTo>
                    <a:pt x="803" y="0"/>
                  </a:lnTo>
                  <a:lnTo>
                    <a:pt x="803" y="263"/>
                  </a:lnTo>
                  <a:lnTo>
                    <a:pt x="0" y="259"/>
                  </a:lnTo>
                  <a:lnTo>
                    <a:pt x="0" y="339"/>
                  </a:lnTo>
                  <a:lnTo>
                    <a:pt x="1334" y="338"/>
                  </a:lnTo>
                  <a:lnTo>
                    <a:pt x="1334" y="407"/>
                  </a:lnTo>
                  <a:lnTo>
                    <a:pt x="415" y="407"/>
                  </a:lnTo>
                  <a:lnTo>
                    <a:pt x="415" y="487"/>
                  </a:lnTo>
                  <a:lnTo>
                    <a:pt x="921" y="487"/>
                  </a:lnTo>
                  <a:lnTo>
                    <a:pt x="1383" y="750"/>
                  </a:lnTo>
                  <a:lnTo>
                    <a:pt x="1399" y="724"/>
                  </a:lnTo>
                  <a:lnTo>
                    <a:pt x="1415" y="696"/>
                  </a:lnTo>
                  <a:lnTo>
                    <a:pt x="1434" y="669"/>
                  </a:lnTo>
                  <a:lnTo>
                    <a:pt x="1452" y="644"/>
                  </a:lnTo>
                  <a:lnTo>
                    <a:pt x="1471" y="619"/>
                  </a:lnTo>
                  <a:lnTo>
                    <a:pt x="1491" y="593"/>
                  </a:lnTo>
                  <a:lnTo>
                    <a:pt x="1512" y="569"/>
                  </a:lnTo>
                  <a:lnTo>
                    <a:pt x="1533" y="545"/>
                  </a:lnTo>
                  <a:lnTo>
                    <a:pt x="1590" y="486"/>
                  </a:lnTo>
                  <a:lnTo>
                    <a:pt x="1605" y="474"/>
                  </a:lnTo>
                  <a:lnTo>
                    <a:pt x="1622" y="460"/>
                  </a:lnTo>
                  <a:lnTo>
                    <a:pt x="1639" y="445"/>
                  </a:lnTo>
                  <a:lnTo>
                    <a:pt x="1658" y="430"/>
                  </a:lnTo>
                  <a:lnTo>
                    <a:pt x="1679" y="415"/>
                  </a:lnTo>
                  <a:lnTo>
                    <a:pt x="1700" y="399"/>
                  </a:lnTo>
                  <a:lnTo>
                    <a:pt x="1723" y="384"/>
                  </a:lnTo>
                  <a:lnTo>
                    <a:pt x="1745" y="368"/>
                  </a:lnTo>
                  <a:lnTo>
                    <a:pt x="1768" y="353"/>
                  </a:lnTo>
                  <a:lnTo>
                    <a:pt x="1791" y="338"/>
                  </a:lnTo>
                  <a:lnTo>
                    <a:pt x="1813" y="323"/>
                  </a:lnTo>
                  <a:lnTo>
                    <a:pt x="1835" y="309"/>
                  </a:lnTo>
                  <a:lnTo>
                    <a:pt x="1855" y="296"/>
                  </a:lnTo>
                  <a:lnTo>
                    <a:pt x="1876" y="285"/>
                  </a:lnTo>
                  <a:lnTo>
                    <a:pt x="1895" y="274"/>
                  </a:lnTo>
                  <a:lnTo>
                    <a:pt x="1912" y="265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6 0.06544 L -0.09879 0.38012 E">
                                      <p:cBhvr>
                                        <p:cTn id="594" dur="2000" fill="hold"/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59 0.06337 L -0.07604 0.54602 E">
                                      <p:cBhvr>
                                        <p:cTn id="598" dur="2000" fill="hold"/>
                                        <p:tgtEl>
                                          <p:spTgt spid="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0.06267 L -0.17604 0.65009 E">
                                      <p:cBhvr>
                                        <p:cTn id="602" dur="2000" fill="hold"/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5 0.07401 L -0.1552 0.49353 E">
                                      <p:cBhvr>
                                        <p:cTn id="606" dur="20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5 0.0703 L 0.21041 0.61586 E">
                                      <p:cBhvr>
                                        <p:cTn id="610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5 0.0599 L 0.21024 0.79418 E">
                                      <p:cBhvr>
                                        <p:cTn id="614" dur="200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73 0.0599 L 0.05295 0.4482 E">
                                      <p:cBhvr>
                                        <p:cTn id="618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599 L 0.10018 0.58442 E">
                                      <p:cBhvr>
                                        <p:cTn id="622" dur="2000" fill="hold"/>
                                        <p:tgtEl>
                                          <p:spTgt spid="8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703 L -0.02586 0.38506 E">
                                      <p:cBhvr>
                                        <p:cTn id="626" dur="2000" fill="hold"/>
                                        <p:tgtEl>
                                          <p:spTgt spid="8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5"/>
          <p:cNvSpPr/>
          <p:nvPr/>
        </p:nvSpPr>
        <p:spPr>
          <a:xfrm>
            <a:off x="3044880" y="208296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爸 爸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3059280" y="124920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ff0066"/>
                </a:solidFill>
                <a:latin typeface="宋体"/>
              </a:rPr>
              <a:t>à</a:t>
            </a: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 b</a:t>
            </a:r>
            <a:r>
              <a:rPr b="0" lang="en-US" sz="7200" spc="-1" strike="noStrike">
                <a:solidFill>
                  <a:srgbClr val="ff0066"/>
                </a:solidFill>
                <a:latin typeface="Comic Sans MS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1989000" y="3730680"/>
            <a:ext cx="153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8800" spc="-1" strike="noStrike">
                <a:solidFill>
                  <a:srgbClr val="ff0000"/>
                </a:solidFill>
                <a:latin typeface="宋体"/>
              </a:rPr>
              <a:t>à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411360" y="4746600"/>
            <a:ext cx="870120" cy="360"/>
            <a:chOff x="3411360" y="4746600"/>
            <a:chExt cx="870120" cy="360"/>
          </a:xfrm>
        </p:grpSpPr>
        <p:sp>
          <p:nvSpPr>
            <p:cNvPr id="573" name="Line 9"/>
            <p:cNvSpPr/>
            <p:nvPr/>
          </p:nvSpPr>
          <p:spPr>
            <a:xfrm>
              <a:off x="3411360" y="4746600"/>
              <a:ext cx="87012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 txBox="1"/>
            <p:nvPr/>
          </p:nvSpPr>
          <p:spPr>
            <a:xfrm>
              <a:off x="3411360" y="4746600"/>
              <a:ext cx="870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Text Box 10"/>
          <p:cNvSpPr/>
          <p:nvPr/>
        </p:nvSpPr>
        <p:spPr>
          <a:xfrm>
            <a:off x="4332240" y="3765600"/>
            <a:ext cx="126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88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5478480" y="3732120"/>
            <a:ext cx="153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宋体"/>
              </a:rPr>
              <a:t>à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108400" y="4659480"/>
            <a:ext cx="406440" cy="360"/>
            <a:chOff x="5108400" y="4659480"/>
            <a:chExt cx="406440" cy="360"/>
          </a:xfrm>
        </p:grpSpPr>
        <p:sp>
          <p:nvSpPr>
            <p:cNvPr id="578" name="Line 12"/>
            <p:cNvSpPr/>
            <p:nvPr/>
          </p:nvSpPr>
          <p:spPr>
            <a:xfrm>
              <a:off x="5108400" y="4659480"/>
              <a:ext cx="40644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 txBox="1"/>
            <p:nvPr/>
          </p:nvSpPr>
          <p:spPr>
            <a:xfrm>
              <a:off x="5108400" y="4659480"/>
              <a:ext cx="406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Picture 2" descr="FR2020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928" name="AutoShape 3"/>
          <p:cNvSpPr/>
          <p:nvPr/>
        </p:nvSpPr>
        <p:spPr>
          <a:xfrm>
            <a:off x="1905120" y="3276720"/>
            <a:ext cx="2057400" cy="175248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Comic Sans MS"/>
              </a:rPr>
              <a:t>f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AutoShape 4"/>
          <p:cNvSpPr/>
          <p:nvPr/>
        </p:nvSpPr>
        <p:spPr>
          <a:xfrm>
            <a:off x="2514600" y="914400"/>
            <a:ext cx="2057400" cy="175248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m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AutoShape 5"/>
          <p:cNvSpPr/>
          <p:nvPr/>
        </p:nvSpPr>
        <p:spPr>
          <a:xfrm>
            <a:off x="4140360" y="4221000"/>
            <a:ext cx="2057400" cy="175284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Comic Sans MS"/>
              </a:rPr>
              <a:t>pō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AutoShape 6"/>
          <p:cNvSpPr/>
          <p:nvPr/>
        </p:nvSpPr>
        <p:spPr>
          <a:xfrm>
            <a:off x="4419720" y="2057400"/>
            <a:ext cx="2133360" cy="182880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Comic Sans MS"/>
              </a:rPr>
              <a:t>b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AutoShape 7"/>
          <p:cNvSpPr/>
          <p:nvPr/>
        </p:nvSpPr>
        <p:spPr>
          <a:xfrm>
            <a:off x="6732720" y="2924280"/>
            <a:ext cx="2057400" cy="175248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Comic Sans MS"/>
              </a:rPr>
              <a:t>p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AutoShape 8"/>
          <p:cNvSpPr/>
          <p:nvPr/>
        </p:nvSpPr>
        <p:spPr>
          <a:xfrm>
            <a:off x="6553080" y="457200"/>
            <a:ext cx="2057400" cy="175248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b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9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Picture 4" descr="kuang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5" name="Text Box 5"/>
          <p:cNvSpPr/>
          <p:nvPr/>
        </p:nvSpPr>
        <p:spPr>
          <a:xfrm>
            <a:off x="1087560" y="1069920"/>
            <a:ext cx="714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7200" spc="-1" strike="noStrike">
                <a:solidFill>
                  <a:srgbClr val="006600"/>
                </a:solidFill>
                <a:latin typeface="宋体"/>
              </a:rPr>
              <a:t>bā  pá  mǎ fà  mō  bó  fǒ mǐ  bì  pù  pò pī  b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4" descr="kuang013"/>
          <p:cNvPicPr/>
          <p:nvPr/>
        </p:nvPicPr>
        <p:blipFill>
          <a:blip r:embed="rId1"/>
          <a:stretch/>
        </p:blipFill>
        <p:spPr>
          <a:xfrm>
            <a:off x="539640" y="571680"/>
            <a:ext cx="8064720" cy="5715000"/>
          </a:xfrm>
          <a:prstGeom prst="rect">
            <a:avLst/>
          </a:prstGeom>
          <a:ln w="0">
            <a:noFill/>
          </a:ln>
        </p:spPr>
      </p:pic>
      <p:sp>
        <p:nvSpPr>
          <p:cNvPr id="937" name="Rectangle 6"/>
          <p:cNvSpPr/>
          <p:nvPr/>
        </p:nvSpPr>
        <p:spPr>
          <a:xfrm>
            <a:off x="3370680" y="2182680"/>
            <a:ext cx="25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fù m</a:t>
            </a:r>
            <a:r>
              <a:rPr b="1" lang="en-US" sz="7200" spc="-1" strike="noStrike">
                <a:solidFill>
                  <a:srgbClr val="ff0066"/>
                </a:solidFill>
                <a:latin typeface="Arial"/>
                <a:ea typeface="隶书"/>
              </a:rPr>
              <a:t>ǔ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7"/>
          <p:cNvSpPr/>
          <p:nvPr/>
        </p:nvSpPr>
        <p:spPr>
          <a:xfrm>
            <a:off x="3635280" y="321300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父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5"/>
          <p:cNvSpPr/>
          <p:nvPr/>
        </p:nvSpPr>
        <p:spPr>
          <a:xfrm>
            <a:off x="1576080" y="1981080"/>
            <a:ext cx="6491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66"/>
                </a:solidFill>
                <a:latin typeface="宋体"/>
              </a:rPr>
              <a:t>fù mǔ bà ba  mā ma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6"/>
          <p:cNvSpPr/>
          <p:nvPr/>
        </p:nvSpPr>
        <p:spPr>
          <a:xfrm>
            <a:off x="1600200" y="2643120"/>
            <a:ext cx="578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父母  爸爸  妈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Text Box 4"/>
          <p:cNvSpPr/>
          <p:nvPr/>
        </p:nvSpPr>
        <p:spPr>
          <a:xfrm>
            <a:off x="1600200" y="2643120"/>
            <a:ext cx="5780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5"/>
          <p:cNvSpPr/>
          <p:nvPr/>
        </p:nvSpPr>
        <p:spPr>
          <a:xfrm>
            <a:off x="857160" y="2639880"/>
            <a:ext cx="699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9d8ec"/>
                </a:solidFill>
                <a:latin typeface="楷体_GB2312"/>
                <a:ea typeface="楷体_GB2312"/>
              </a:rPr>
              <a:t>步伐  伯母  瀑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6"/>
          <p:cNvSpPr/>
          <p:nvPr/>
        </p:nvSpPr>
        <p:spPr>
          <a:xfrm>
            <a:off x="830160" y="1668600"/>
            <a:ext cx="73152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0000"/>
                </a:solidFill>
                <a:latin typeface="宋体"/>
              </a:rPr>
              <a:t>bù fá  bó mǔ  pù bù</a:t>
            </a:r>
            <a:r>
              <a:rPr b="0" lang="en-US" sz="55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"/>
          <p:cNvGrpSpPr/>
          <p:nvPr/>
        </p:nvGrpSpPr>
        <p:grpSpPr>
          <a:xfrm>
            <a:off x="0" y="890640"/>
            <a:ext cx="9144000" cy="360"/>
            <a:chOff x="0" y="890640"/>
            <a:chExt cx="9144000" cy="360"/>
          </a:xfrm>
        </p:grpSpPr>
        <p:sp>
          <p:nvSpPr>
            <p:cNvPr id="945" name="Line 2"/>
            <p:cNvSpPr/>
            <p:nvPr/>
          </p:nvSpPr>
          <p:spPr>
            <a:xfrm>
              <a:off x="0" y="89064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 txBox="1"/>
            <p:nvPr/>
          </p:nvSpPr>
          <p:spPr>
            <a:xfrm>
              <a:off x="0" y="890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0" y="2081160"/>
            <a:ext cx="9144000" cy="360"/>
            <a:chOff x="0" y="2081160"/>
            <a:chExt cx="9144000" cy="360"/>
          </a:xfrm>
        </p:grpSpPr>
        <p:sp>
          <p:nvSpPr>
            <p:cNvPr id="948" name="Line 3"/>
            <p:cNvSpPr/>
            <p:nvPr/>
          </p:nvSpPr>
          <p:spPr>
            <a:xfrm>
              <a:off x="0" y="208116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 txBox="1"/>
            <p:nvPr/>
          </p:nvSpPr>
          <p:spPr>
            <a:xfrm>
              <a:off x="0" y="2081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0" y="1544760"/>
            <a:ext cx="9144000" cy="360"/>
            <a:chOff x="0" y="1544760"/>
            <a:chExt cx="9144000" cy="360"/>
          </a:xfrm>
        </p:grpSpPr>
        <p:sp>
          <p:nvSpPr>
            <p:cNvPr id="951" name="Line 4"/>
            <p:cNvSpPr/>
            <p:nvPr/>
          </p:nvSpPr>
          <p:spPr>
            <a:xfrm>
              <a:off x="0" y="154476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 txBox="1"/>
            <p:nvPr/>
          </p:nvSpPr>
          <p:spPr>
            <a:xfrm>
              <a:off x="0" y="15447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0" y="2685960"/>
            <a:ext cx="9144000" cy="360"/>
            <a:chOff x="0" y="2685960"/>
            <a:chExt cx="9144000" cy="360"/>
          </a:xfrm>
        </p:grpSpPr>
        <p:sp>
          <p:nvSpPr>
            <p:cNvPr id="954" name="Line 5"/>
            <p:cNvSpPr/>
            <p:nvPr/>
          </p:nvSpPr>
          <p:spPr>
            <a:xfrm>
              <a:off x="0" y="268596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 txBox="1"/>
            <p:nvPr/>
          </p:nvSpPr>
          <p:spPr>
            <a:xfrm>
              <a:off x="0" y="26859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0" y="5581800"/>
            <a:ext cx="9144000" cy="360"/>
            <a:chOff x="0" y="5581800"/>
            <a:chExt cx="9144000" cy="360"/>
          </a:xfrm>
        </p:grpSpPr>
        <p:sp>
          <p:nvSpPr>
            <p:cNvPr id="957" name="Line 6"/>
            <p:cNvSpPr/>
            <p:nvPr/>
          </p:nvSpPr>
          <p:spPr>
            <a:xfrm>
              <a:off x="0" y="558180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 txBox="1"/>
            <p:nvPr/>
          </p:nvSpPr>
          <p:spPr>
            <a:xfrm>
              <a:off x="0" y="55818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0" y="6194520"/>
            <a:ext cx="9144000" cy="360"/>
            <a:chOff x="0" y="6194520"/>
            <a:chExt cx="9144000" cy="360"/>
          </a:xfrm>
        </p:grpSpPr>
        <p:sp>
          <p:nvSpPr>
            <p:cNvPr id="960" name="Line 7"/>
            <p:cNvSpPr/>
            <p:nvPr/>
          </p:nvSpPr>
          <p:spPr>
            <a:xfrm>
              <a:off x="0" y="619452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 txBox="1"/>
            <p:nvPr/>
          </p:nvSpPr>
          <p:spPr>
            <a:xfrm>
              <a:off x="0" y="6194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0" y="5037120"/>
            <a:ext cx="9144000" cy="360"/>
            <a:chOff x="0" y="5037120"/>
            <a:chExt cx="9144000" cy="360"/>
          </a:xfrm>
        </p:grpSpPr>
        <p:sp>
          <p:nvSpPr>
            <p:cNvPr id="963" name="Line 8"/>
            <p:cNvSpPr/>
            <p:nvPr/>
          </p:nvSpPr>
          <p:spPr>
            <a:xfrm>
              <a:off x="0" y="503712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 txBox="1"/>
            <p:nvPr/>
          </p:nvSpPr>
          <p:spPr>
            <a:xfrm>
              <a:off x="0" y="50371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0" y="4422600"/>
            <a:ext cx="9144000" cy="360"/>
            <a:chOff x="0" y="4422600"/>
            <a:chExt cx="9144000" cy="360"/>
          </a:xfrm>
        </p:grpSpPr>
        <p:sp>
          <p:nvSpPr>
            <p:cNvPr id="966" name="Line 9"/>
            <p:cNvSpPr/>
            <p:nvPr/>
          </p:nvSpPr>
          <p:spPr>
            <a:xfrm>
              <a:off x="0" y="4422600"/>
              <a:ext cx="91440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>
              <a:off x="0" y="44226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Rectangle 12"/>
          <p:cNvSpPr/>
          <p:nvPr/>
        </p:nvSpPr>
        <p:spPr>
          <a:xfrm>
            <a:off x="114480" y="890640"/>
            <a:ext cx="895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ff"/>
                </a:solidFill>
                <a:latin typeface="宋体"/>
              </a:rPr>
              <a:t>fùmǔ bàbɑ māmɑ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13"/>
          <p:cNvSpPr/>
          <p:nvPr/>
        </p:nvSpPr>
        <p:spPr>
          <a:xfrm>
            <a:off x="47520" y="4405320"/>
            <a:ext cx="8882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ff"/>
                </a:solidFill>
                <a:latin typeface="宋体"/>
              </a:rPr>
              <a:t>bùfá  bómǔ pùbù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7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2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Picture 2" descr="NA01441_"/>
          <p:cNvPicPr/>
          <p:nvPr/>
        </p:nvPicPr>
        <p:blipFill>
          <a:blip r:embed="rId1"/>
          <a:stretch/>
        </p:blipFill>
        <p:spPr>
          <a:xfrm>
            <a:off x="1619280" y="0"/>
            <a:ext cx="6075360" cy="6553080"/>
          </a:xfrm>
          <a:prstGeom prst="rect">
            <a:avLst/>
          </a:prstGeom>
          <a:ln w="0">
            <a:noFill/>
          </a:ln>
        </p:spPr>
      </p:pic>
      <p:sp>
        <p:nvSpPr>
          <p:cNvPr id="971" name="Oval 3"/>
          <p:cNvSpPr/>
          <p:nvPr/>
        </p:nvSpPr>
        <p:spPr>
          <a:xfrm>
            <a:off x="1995480" y="2670120"/>
            <a:ext cx="76212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Comic Sans MS"/>
              </a:rPr>
              <a:t>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"/>
          <p:cNvSpPr/>
          <p:nvPr/>
        </p:nvSpPr>
        <p:spPr>
          <a:xfrm>
            <a:off x="2495520" y="1589040"/>
            <a:ext cx="76212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  <a:ea typeface="隶书"/>
              </a:rPr>
              <a:t>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5"/>
          <p:cNvSpPr/>
          <p:nvPr/>
        </p:nvSpPr>
        <p:spPr>
          <a:xfrm>
            <a:off x="3352680" y="457200"/>
            <a:ext cx="76212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  <a:ea typeface="隶书"/>
              </a:rPr>
              <a:t>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6"/>
          <p:cNvSpPr/>
          <p:nvPr/>
        </p:nvSpPr>
        <p:spPr>
          <a:xfrm>
            <a:off x="3809880" y="1676520"/>
            <a:ext cx="762120" cy="7617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Comic Sans MS"/>
              </a:rPr>
              <a:t>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Oval 7"/>
          <p:cNvSpPr/>
          <p:nvPr/>
        </p:nvSpPr>
        <p:spPr>
          <a:xfrm>
            <a:off x="5364000" y="189000"/>
            <a:ext cx="762120" cy="7617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Comic Sans MS"/>
              </a:rPr>
              <a:t>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Oval 8"/>
          <p:cNvSpPr/>
          <p:nvPr/>
        </p:nvSpPr>
        <p:spPr>
          <a:xfrm>
            <a:off x="4788000" y="1341360"/>
            <a:ext cx="76176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  <a:ea typeface="隶书"/>
              </a:rPr>
              <a:t>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Oval 9"/>
          <p:cNvSpPr/>
          <p:nvPr/>
        </p:nvSpPr>
        <p:spPr>
          <a:xfrm>
            <a:off x="5867280" y="1916280"/>
            <a:ext cx="762120" cy="7617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Comic Sans MS"/>
              </a:rPr>
              <a:t>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Oval 10"/>
          <p:cNvSpPr/>
          <p:nvPr/>
        </p:nvSpPr>
        <p:spPr>
          <a:xfrm>
            <a:off x="6588000" y="1052640"/>
            <a:ext cx="762120" cy="7617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Comic Sans MS"/>
                <a:ea typeface="楷体_GB2312"/>
              </a:rPr>
              <a:t>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Oval 11"/>
          <p:cNvSpPr/>
          <p:nvPr/>
        </p:nvSpPr>
        <p:spPr>
          <a:xfrm>
            <a:off x="7164360" y="2133720"/>
            <a:ext cx="762120" cy="7617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Group 12"/>
          <p:cNvGrpSpPr/>
          <p:nvPr/>
        </p:nvGrpSpPr>
        <p:grpSpPr>
          <a:xfrm>
            <a:off x="957240" y="4365720"/>
            <a:ext cx="2533680" cy="2539440"/>
            <a:chOff x="957240" y="4365720"/>
            <a:chExt cx="2533680" cy="2539440"/>
          </a:xfrm>
        </p:grpSpPr>
        <p:sp>
          <p:nvSpPr>
            <p:cNvPr id="981" name="AutoShape 13"/>
            <p:cNvSpPr/>
            <p:nvPr/>
          </p:nvSpPr>
          <p:spPr>
            <a:xfrm rot="2343600">
              <a:off x="1331640" y="4723920"/>
              <a:ext cx="1784160" cy="18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14"/>
            <p:cNvSpPr/>
            <p:nvPr/>
          </p:nvSpPr>
          <p:spPr>
            <a:xfrm rot="2343600">
              <a:off x="1573200" y="4725720"/>
              <a:ext cx="1547640" cy="1140120"/>
            </a:xfrm>
            <a:custGeom>
              <a:avLst/>
              <a:gdLst/>
              <a:ahLst/>
              <a:rect l="l" t="t" r="r" b="b"/>
              <a:pathLst>
                <a:path w="1951" h="1435">
                  <a:moveTo>
                    <a:pt x="0" y="1434"/>
                  </a:moveTo>
                  <a:lnTo>
                    <a:pt x="716" y="1435"/>
                  </a:lnTo>
                  <a:lnTo>
                    <a:pt x="716" y="894"/>
                  </a:lnTo>
                  <a:lnTo>
                    <a:pt x="1329" y="894"/>
                  </a:lnTo>
                  <a:lnTo>
                    <a:pt x="1329" y="441"/>
                  </a:lnTo>
                  <a:lnTo>
                    <a:pt x="1471" y="441"/>
                  </a:lnTo>
                  <a:lnTo>
                    <a:pt x="1471" y="256"/>
                  </a:lnTo>
                  <a:lnTo>
                    <a:pt x="1812" y="256"/>
                  </a:lnTo>
                  <a:lnTo>
                    <a:pt x="1812" y="441"/>
                  </a:lnTo>
                  <a:lnTo>
                    <a:pt x="1951" y="441"/>
                  </a:lnTo>
                  <a:lnTo>
                    <a:pt x="1870" y="0"/>
                  </a:lnTo>
                  <a:lnTo>
                    <a:pt x="1853" y="1"/>
                  </a:lnTo>
                  <a:lnTo>
                    <a:pt x="1838" y="2"/>
                  </a:lnTo>
                  <a:lnTo>
                    <a:pt x="1825" y="3"/>
                  </a:lnTo>
                  <a:lnTo>
                    <a:pt x="1814" y="6"/>
                  </a:lnTo>
                  <a:lnTo>
                    <a:pt x="1805" y="7"/>
                  </a:lnTo>
                  <a:lnTo>
                    <a:pt x="1795" y="8"/>
                  </a:lnTo>
                  <a:lnTo>
                    <a:pt x="1787" y="10"/>
                  </a:lnTo>
                  <a:lnTo>
                    <a:pt x="1779" y="12"/>
                  </a:lnTo>
                  <a:lnTo>
                    <a:pt x="1737" y="21"/>
                  </a:lnTo>
                  <a:lnTo>
                    <a:pt x="1692" y="31"/>
                  </a:lnTo>
                  <a:lnTo>
                    <a:pt x="1645" y="44"/>
                  </a:lnTo>
                  <a:lnTo>
                    <a:pt x="1595" y="58"/>
                  </a:lnTo>
                  <a:lnTo>
                    <a:pt x="1546" y="73"/>
                  </a:lnTo>
                  <a:lnTo>
                    <a:pt x="1493" y="90"/>
                  </a:lnTo>
                  <a:lnTo>
                    <a:pt x="1440" y="109"/>
                  </a:lnTo>
                  <a:lnTo>
                    <a:pt x="1384" y="130"/>
                  </a:lnTo>
                  <a:lnTo>
                    <a:pt x="1329" y="153"/>
                  </a:lnTo>
                  <a:lnTo>
                    <a:pt x="1271" y="179"/>
                  </a:lnTo>
                  <a:lnTo>
                    <a:pt x="1214" y="205"/>
                  </a:lnTo>
                  <a:lnTo>
                    <a:pt x="1155" y="235"/>
                  </a:lnTo>
                  <a:lnTo>
                    <a:pt x="1095" y="267"/>
                  </a:lnTo>
                  <a:lnTo>
                    <a:pt x="1035" y="301"/>
                  </a:lnTo>
                  <a:lnTo>
                    <a:pt x="974" y="338"/>
                  </a:lnTo>
                  <a:lnTo>
                    <a:pt x="914" y="377"/>
                  </a:lnTo>
                  <a:lnTo>
                    <a:pt x="853" y="419"/>
                  </a:lnTo>
                  <a:lnTo>
                    <a:pt x="791" y="464"/>
                  </a:lnTo>
                  <a:lnTo>
                    <a:pt x="730" y="513"/>
                  </a:lnTo>
                  <a:lnTo>
                    <a:pt x="670" y="563"/>
                  </a:lnTo>
                  <a:lnTo>
                    <a:pt x="609" y="616"/>
                  </a:lnTo>
                  <a:lnTo>
                    <a:pt x="549" y="674"/>
                  </a:lnTo>
                  <a:lnTo>
                    <a:pt x="489" y="734"/>
                  </a:lnTo>
                  <a:lnTo>
                    <a:pt x="431" y="797"/>
                  </a:lnTo>
                  <a:lnTo>
                    <a:pt x="373" y="864"/>
                  </a:lnTo>
                  <a:lnTo>
                    <a:pt x="316" y="934"/>
                  </a:lnTo>
                  <a:lnTo>
                    <a:pt x="260" y="1008"/>
                  </a:lnTo>
                  <a:lnTo>
                    <a:pt x="205" y="1086"/>
                  </a:lnTo>
                  <a:lnTo>
                    <a:pt x="151" y="1167"/>
                  </a:lnTo>
                  <a:lnTo>
                    <a:pt x="99" y="1252"/>
                  </a:lnTo>
                  <a:lnTo>
                    <a:pt x="48" y="1341"/>
                  </a:lnTo>
                  <a:lnTo>
                    <a:pt x="0" y="1434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5"/>
            <p:cNvSpPr/>
            <p:nvPr/>
          </p:nvSpPr>
          <p:spPr>
            <a:xfrm rot="2343600">
              <a:off x="2078280" y="5993640"/>
              <a:ext cx="7308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6"/>
            <p:cNvSpPr/>
            <p:nvPr/>
          </p:nvSpPr>
          <p:spPr>
            <a:xfrm rot="2343600">
              <a:off x="1653840" y="5650560"/>
              <a:ext cx="763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7"/>
            <p:cNvSpPr/>
            <p:nvPr/>
          </p:nvSpPr>
          <p:spPr>
            <a:xfrm rot="2343600">
              <a:off x="1529640" y="5549040"/>
              <a:ext cx="745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8"/>
            <p:cNvSpPr/>
            <p:nvPr/>
          </p:nvSpPr>
          <p:spPr>
            <a:xfrm rot="2343600">
              <a:off x="1405080" y="5448240"/>
              <a:ext cx="7596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9"/>
            <p:cNvSpPr/>
            <p:nvPr/>
          </p:nvSpPr>
          <p:spPr>
            <a:xfrm rot="2343600">
              <a:off x="2207160" y="6099840"/>
              <a:ext cx="763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20"/>
            <p:cNvSpPr/>
            <p:nvPr/>
          </p:nvSpPr>
          <p:spPr>
            <a:xfrm rot="2343600">
              <a:off x="2338200" y="6205680"/>
              <a:ext cx="7596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21"/>
            <p:cNvSpPr/>
            <p:nvPr/>
          </p:nvSpPr>
          <p:spPr>
            <a:xfrm rot="2343600">
              <a:off x="2468520" y="577800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22"/>
            <p:cNvSpPr/>
            <p:nvPr/>
          </p:nvSpPr>
          <p:spPr>
            <a:xfrm rot="2343600">
              <a:off x="2599200" y="588384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23"/>
            <p:cNvSpPr/>
            <p:nvPr/>
          </p:nvSpPr>
          <p:spPr>
            <a:xfrm rot="2343600">
              <a:off x="2574720" y="564696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24"/>
            <p:cNvSpPr/>
            <p:nvPr/>
          </p:nvSpPr>
          <p:spPr>
            <a:xfrm rot="2343600">
              <a:off x="2705400" y="575280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25"/>
            <p:cNvSpPr/>
            <p:nvPr/>
          </p:nvSpPr>
          <p:spPr>
            <a:xfrm rot="2343600">
              <a:off x="2212200" y="556992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26"/>
            <p:cNvSpPr/>
            <p:nvPr/>
          </p:nvSpPr>
          <p:spPr>
            <a:xfrm rot="2343600">
              <a:off x="2342520" y="5675040"/>
              <a:ext cx="7488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27"/>
            <p:cNvSpPr/>
            <p:nvPr/>
          </p:nvSpPr>
          <p:spPr>
            <a:xfrm rot="2343600">
              <a:off x="2087640" y="546876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28"/>
            <p:cNvSpPr/>
            <p:nvPr/>
          </p:nvSpPr>
          <p:spPr>
            <a:xfrm rot="2343600">
              <a:off x="2369520" y="589968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29"/>
            <p:cNvSpPr/>
            <p:nvPr/>
          </p:nvSpPr>
          <p:spPr>
            <a:xfrm rot="2343600">
              <a:off x="2500200" y="600552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30"/>
            <p:cNvSpPr/>
            <p:nvPr/>
          </p:nvSpPr>
          <p:spPr>
            <a:xfrm rot="2343600">
              <a:off x="2113200" y="569196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31"/>
            <p:cNvSpPr/>
            <p:nvPr/>
          </p:nvSpPr>
          <p:spPr>
            <a:xfrm rot="2343600">
              <a:off x="2243880" y="5797080"/>
              <a:ext cx="7488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32"/>
            <p:cNvSpPr/>
            <p:nvPr/>
          </p:nvSpPr>
          <p:spPr>
            <a:xfrm rot="2343600">
              <a:off x="1988640" y="559044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33"/>
            <p:cNvSpPr/>
            <p:nvPr/>
          </p:nvSpPr>
          <p:spPr>
            <a:xfrm rot="2343600">
              <a:off x="2679840" y="5517720"/>
              <a:ext cx="76320" cy="7488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34"/>
            <p:cNvSpPr/>
            <p:nvPr/>
          </p:nvSpPr>
          <p:spPr>
            <a:xfrm rot="2343600">
              <a:off x="2810880" y="5623920"/>
              <a:ext cx="75960" cy="7488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Freeform 35"/>
            <p:cNvSpPr/>
            <p:nvPr/>
          </p:nvSpPr>
          <p:spPr>
            <a:xfrm rot="2343600">
              <a:off x="2719440" y="5705640"/>
              <a:ext cx="204840" cy="892080"/>
            </a:xfrm>
            <a:custGeom>
              <a:avLst/>
              <a:gdLst/>
              <a:ahLst/>
              <a:rect l="l" t="t" r="r" b="b"/>
              <a:pathLst>
                <a:path w="258" h="1124">
                  <a:moveTo>
                    <a:pt x="258" y="1124"/>
                  </a:moveTo>
                  <a:lnTo>
                    <a:pt x="0" y="0"/>
                  </a:lnTo>
                  <a:lnTo>
                    <a:pt x="1" y="1124"/>
                  </a:lnTo>
                  <a:lnTo>
                    <a:pt x="258" y="1124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Freeform 36"/>
            <p:cNvSpPr/>
            <p:nvPr/>
          </p:nvSpPr>
          <p:spPr>
            <a:xfrm rot="2343600">
              <a:off x="1002960" y="5753160"/>
              <a:ext cx="1517760" cy="595440"/>
            </a:xfrm>
            <a:custGeom>
              <a:avLst/>
              <a:gdLst/>
              <a:ahLst/>
              <a:rect l="l" t="t" r="r" b="b"/>
              <a:pathLst>
                <a:path w="1912" h="750">
                  <a:moveTo>
                    <a:pt x="1912" y="265"/>
                  </a:moveTo>
                  <a:lnTo>
                    <a:pt x="1106" y="263"/>
                  </a:lnTo>
                  <a:lnTo>
                    <a:pt x="1106" y="0"/>
                  </a:lnTo>
                  <a:lnTo>
                    <a:pt x="989" y="0"/>
                  </a:lnTo>
                  <a:lnTo>
                    <a:pt x="989" y="264"/>
                  </a:lnTo>
                  <a:lnTo>
                    <a:pt x="919" y="264"/>
                  </a:lnTo>
                  <a:lnTo>
                    <a:pt x="919" y="0"/>
                  </a:lnTo>
                  <a:lnTo>
                    <a:pt x="803" y="0"/>
                  </a:lnTo>
                  <a:lnTo>
                    <a:pt x="803" y="263"/>
                  </a:lnTo>
                  <a:lnTo>
                    <a:pt x="0" y="259"/>
                  </a:lnTo>
                  <a:lnTo>
                    <a:pt x="0" y="339"/>
                  </a:lnTo>
                  <a:lnTo>
                    <a:pt x="1334" y="338"/>
                  </a:lnTo>
                  <a:lnTo>
                    <a:pt x="1334" y="407"/>
                  </a:lnTo>
                  <a:lnTo>
                    <a:pt x="415" y="407"/>
                  </a:lnTo>
                  <a:lnTo>
                    <a:pt x="415" y="487"/>
                  </a:lnTo>
                  <a:lnTo>
                    <a:pt x="921" y="487"/>
                  </a:lnTo>
                  <a:lnTo>
                    <a:pt x="1383" y="750"/>
                  </a:lnTo>
                  <a:lnTo>
                    <a:pt x="1399" y="724"/>
                  </a:lnTo>
                  <a:lnTo>
                    <a:pt x="1415" y="696"/>
                  </a:lnTo>
                  <a:lnTo>
                    <a:pt x="1434" y="669"/>
                  </a:lnTo>
                  <a:lnTo>
                    <a:pt x="1452" y="644"/>
                  </a:lnTo>
                  <a:lnTo>
                    <a:pt x="1471" y="619"/>
                  </a:lnTo>
                  <a:lnTo>
                    <a:pt x="1491" y="593"/>
                  </a:lnTo>
                  <a:lnTo>
                    <a:pt x="1512" y="569"/>
                  </a:lnTo>
                  <a:lnTo>
                    <a:pt x="1533" y="545"/>
                  </a:lnTo>
                  <a:lnTo>
                    <a:pt x="1590" y="486"/>
                  </a:lnTo>
                  <a:lnTo>
                    <a:pt x="1605" y="474"/>
                  </a:lnTo>
                  <a:lnTo>
                    <a:pt x="1622" y="460"/>
                  </a:lnTo>
                  <a:lnTo>
                    <a:pt x="1639" y="445"/>
                  </a:lnTo>
                  <a:lnTo>
                    <a:pt x="1658" y="430"/>
                  </a:lnTo>
                  <a:lnTo>
                    <a:pt x="1679" y="415"/>
                  </a:lnTo>
                  <a:lnTo>
                    <a:pt x="1700" y="399"/>
                  </a:lnTo>
                  <a:lnTo>
                    <a:pt x="1723" y="384"/>
                  </a:lnTo>
                  <a:lnTo>
                    <a:pt x="1745" y="368"/>
                  </a:lnTo>
                  <a:lnTo>
                    <a:pt x="1768" y="353"/>
                  </a:lnTo>
                  <a:lnTo>
                    <a:pt x="1791" y="338"/>
                  </a:lnTo>
                  <a:lnTo>
                    <a:pt x="1813" y="323"/>
                  </a:lnTo>
                  <a:lnTo>
                    <a:pt x="1835" y="309"/>
                  </a:lnTo>
                  <a:lnTo>
                    <a:pt x="1855" y="296"/>
                  </a:lnTo>
                  <a:lnTo>
                    <a:pt x="1876" y="285"/>
                  </a:lnTo>
                  <a:lnTo>
                    <a:pt x="1895" y="274"/>
                  </a:lnTo>
                  <a:lnTo>
                    <a:pt x="1912" y="265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Group 37"/>
          <p:cNvGrpSpPr/>
          <p:nvPr/>
        </p:nvGrpSpPr>
        <p:grpSpPr>
          <a:xfrm>
            <a:off x="6084720" y="4222800"/>
            <a:ext cx="2533680" cy="2539440"/>
            <a:chOff x="6084720" y="4222800"/>
            <a:chExt cx="2533680" cy="2539440"/>
          </a:xfrm>
        </p:grpSpPr>
        <p:sp>
          <p:nvSpPr>
            <p:cNvPr id="1006" name="AutoShape 38"/>
            <p:cNvSpPr/>
            <p:nvPr/>
          </p:nvSpPr>
          <p:spPr>
            <a:xfrm rot="2343600">
              <a:off x="6459120" y="4581000"/>
              <a:ext cx="1784160" cy="18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Freeform 39"/>
            <p:cNvSpPr/>
            <p:nvPr/>
          </p:nvSpPr>
          <p:spPr>
            <a:xfrm rot="2343600">
              <a:off x="6700680" y="4582800"/>
              <a:ext cx="1547640" cy="1140120"/>
            </a:xfrm>
            <a:custGeom>
              <a:avLst/>
              <a:gdLst/>
              <a:ahLst/>
              <a:rect l="l" t="t" r="r" b="b"/>
              <a:pathLst>
                <a:path w="1951" h="1435">
                  <a:moveTo>
                    <a:pt x="0" y="1434"/>
                  </a:moveTo>
                  <a:lnTo>
                    <a:pt x="716" y="1435"/>
                  </a:lnTo>
                  <a:lnTo>
                    <a:pt x="716" y="894"/>
                  </a:lnTo>
                  <a:lnTo>
                    <a:pt x="1329" y="894"/>
                  </a:lnTo>
                  <a:lnTo>
                    <a:pt x="1329" y="441"/>
                  </a:lnTo>
                  <a:lnTo>
                    <a:pt x="1471" y="441"/>
                  </a:lnTo>
                  <a:lnTo>
                    <a:pt x="1471" y="256"/>
                  </a:lnTo>
                  <a:lnTo>
                    <a:pt x="1812" y="256"/>
                  </a:lnTo>
                  <a:lnTo>
                    <a:pt x="1812" y="441"/>
                  </a:lnTo>
                  <a:lnTo>
                    <a:pt x="1951" y="441"/>
                  </a:lnTo>
                  <a:lnTo>
                    <a:pt x="1870" y="0"/>
                  </a:lnTo>
                  <a:lnTo>
                    <a:pt x="1853" y="1"/>
                  </a:lnTo>
                  <a:lnTo>
                    <a:pt x="1838" y="2"/>
                  </a:lnTo>
                  <a:lnTo>
                    <a:pt x="1825" y="3"/>
                  </a:lnTo>
                  <a:lnTo>
                    <a:pt x="1814" y="6"/>
                  </a:lnTo>
                  <a:lnTo>
                    <a:pt x="1805" y="7"/>
                  </a:lnTo>
                  <a:lnTo>
                    <a:pt x="1795" y="8"/>
                  </a:lnTo>
                  <a:lnTo>
                    <a:pt x="1787" y="10"/>
                  </a:lnTo>
                  <a:lnTo>
                    <a:pt x="1779" y="12"/>
                  </a:lnTo>
                  <a:lnTo>
                    <a:pt x="1737" y="21"/>
                  </a:lnTo>
                  <a:lnTo>
                    <a:pt x="1692" y="31"/>
                  </a:lnTo>
                  <a:lnTo>
                    <a:pt x="1645" y="44"/>
                  </a:lnTo>
                  <a:lnTo>
                    <a:pt x="1595" y="58"/>
                  </a:lnTo>
                  <a:lnTo>
                    <a:pt x="1546" y="73"/>
                  </a:lnTo>
                  <a:lnTo>
                    <a:pt x="1493" y="90"/>
                  </a:lnTo>
                  <a:lnTo>
                    <a:pt x="1440" y="109"/>
                  </a:lnTo>
                  <a:lnTo>
                    <a:pt x="1384" y="130"/>
                  </a:lnTo>
                  <a:lnTo>
                    <a:pt x="1329" y="153"/>
                  </a:lnTo>
                  <a:lnTo>
                    <a:pt x="1271" y="179"/>
                  </a:lnTo>
                  <a:lnTo>
                    <a:pt x="1214" y="205"/>
                  </a:lnTo>
                  <a:lnTo>
                    <a:pt x="1155" y="235"/>
                  </a:lnTo>
                  <a:lnTo>
                    <a:pt x="1095" y="267"/>
                  </a:lnTo>
                  <a:lnTo>
                    <a:pt x="1035" y="301"/>
                  </a:lnTo>
                  <a:lnTo>
                    <a:pt x="974" y="338"/>
                  </a:lnTo>
                  <a:lnTo>
                    <a:pt x="914" y="377"/>
                  </a:lnTo>
                  <a:lnTo>
                    <a:pt x="853" y="419"/>
                  </a:lnTo>
                  <a:lnTo>
                    <a:pt x="791" y="464"/>
                  </a:lnTo>
                  <a:lnTo>
                    <a:pt x="730" y="513"/>
                  </a:lnTo>
                  <a:lnTo>
                    <a:pt x="670" y="563"/>
                  </a:lnTo>
                  <a:lnTo>
                    <a:pt x="609" y="616"/>
                  </a:lnTo>
                  <a:lnTo>
                    <a:pt x="549" y="674"/>
                  </a:lnTo>
                  <a:lnTo>
                    <a:pt x="489" y="734"/>
                  </a:lnTo>
                  <a:lnTo>
                    <a:pt x="431" y="797"/>
                  </a:lnTo>
                  <a:lnTo>
                    <a:pt x="373" y="864"/>
                  </a:lnTo>
                  <a:lnTo>
                    <a:pt x="316" y="934"/>
                  </a:lnTo>
                  <a:lnTo>
                    <a:pt x="260" y="1008"/>
                  </a:lnTo>
                  <a:lnTo>
                    <a:pt x="205" y="1086"/>
                  </a:lnTo>
                  <a:lnTo>
                    <a:pt x="151" y="1167"/>
                  </a:lnTo>
                  <a:lnTo>
                    <a:pt x="99" y="1252"/>
                  </a:lnTo>
                  <a:lnTo>
                    <a:pt x="48" y="1341"/>
                  </a:lnTo>
                  <a:lnTo>
                    <a:pt x="0" y="1434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40"/>
            <p:cNvSpPr/>
            <p:nvPr/>
          </p:nvSpPr>
          <p:spPr>
            <a:xfrm rot="2343600">
              <a:off x="7205760" y="5850720"/>
              <a:ext cx="7308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41"/>
            <p:cNvSpPr/>
            <p:nvPr/>
          </p:nvSpPr>
          <p:spPr>
            <a:xfrm rot="2343600">
              <a:off x="6781320" y="5507640"/>
              <a:ext cx="763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42"/>
            <p:cNvSpPr/>
            <p:nvPr/>
          </p:nvSpPr>
          <p:spPr>
            <a:xfrm rot="2343600">
              <a:off x="6657120" y="5406120"/>
              <a:ext cx="745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43"/>
            <p:cNvSpPr/>
            <p:nvPr/>
          </p:nvSpPr>
          <p:spPr>
            <a:xfrm rot="2343600">
              <a:off x="6532560" y="5305320"/>
              <a:ext cx="7596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44"/>
            <p:cNvSpPr/>
            <p:nvPr/>
          </p:nvSpPr>
          <p:spPr>
            <a:xfrm rot="2343600">
              <a:off x="7334640" y="5956920"/>
              <a:ext cx="763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45"/>
            <p:cNvSpPr/>
            <p:nvPr/>
          </p:nvSpPr>
          <p:spPr>
            <a:xfrm rot="2343600">
              <a:off x="7465680" y="6062760"/>
              <a:ext cx="7596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46"/>
            <p:cNvSpPr/>
            <p:nvPr/>
          </p:nvSpPr>
          <p:spPr>
            <a:xfrm rot="2343600">
              <a:off x="7596000" y="563508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47"/>
            <p:cNvSpPr/>
            <p:nvPr/>
          </p:nvSpPr>
          <p:spPr>
            <a:xfrm rot="2343600">
              <a:off x="7726680" y="574092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48"/>
            <p:cNvSpPr/>
            <p:nvPr/>
          </p:nvSpPr>
          <p:spPr>
            <a:xfrm rot="2343600">
              <a:off x="7702200" y="550404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49"/>
            <p:cNvSpPr/>
            <p:nvPr/>
          </p:nvSpPr>
          <p:spPr>
            <a:xfrm rot="2343600">
              <a:off x="7832880" y="560988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50"/>
            <p:cNvSpPr/>
            <p:nvPr/>
          </p:nvSpPr>
          <p:spPr>
            <a:xfrm rot="2343600">
              <a:off x="7339680" y="542700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51"/>
            <p:cNvSpPr/>
            <p:nvPr/>
          </p:nvSpPr>
          <p:spPr>
            <a:xfrm rot="2343600">
              <a:off x="7470000" y="5532120"/>
              <a:ext cx="7488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52"/>
            <p:cNvSpPr/>
            <p:nvPr/>
          </p:nvSpPr>
          <p:spPr>
            <a:xfrm rot="2343600">
              <a:off x="7215120" y="532584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53"/>
            <p:cNvSpPr/>
            <p:nvPr/>
          </p:nvSpPr>
          <p:spPr>
            <a:xfrm rot="2343600">
              <a:off x="7497000" y="575676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54"/>
            <p:cNvSpPr/>
            <p:nvPr/>
          </p:nvSpPr>
          <p:spPr>
            <a:xfrm rot="2343600">
              <a:off x="7627680" y="586260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55"/>
            <p:cNvSpPr/>
            <p:nvPr/>
          </p:nvSpPr>
          <p:spPr>
            <a:xfrm rot="2343600">
              <a:off x="7240680" y="554904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56"/>
            <p:cNvSpPr/>
            <p:nvPr/>
          </p:nvSpPr>
          <p:spPr>
            <a:xfrm rot="2343600">
              <a:off x="7371360" y="5654160"/>
              <a:ext cx="7488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57"/>
            <p:cNvSpPr/>
            <p:nvPr/>
          </p:nvSpPr>
          <p:spPr>
            <a:xfrm rot="2343600">
              <a:off x="7116120" y="544752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58"/>
            <p:cNvSpPr/>
            <p:nvPr/>
          </p:nvSpPr>
          <p:spPr>
            <a:xfrm rot="2343600">
              <a:off x="7807320" y="5374800"/>
              <a:ext cx="76320" cy="7488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59"/>
            <p:cNvSpPr/>
            <p:nvPr/>
          </p:nvSpPr>
          <p:spPr>
            <a:xfrm rot="2343600">
              <a:off x="7938360" y="5481000"/>
              <a:ext cx="75960" cy="7488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Freeform 60"/>
            <p:cNvSpPr/>
            <p:nvPr/>
          </p:nvSpPr>
          <p:spPr>
            <a:xfrm rot="2343600">
              <a:off x="7846920" y="5562720"/>
              <a:ext cx="204840" cy="892080"/>
            </a:xfrm>
            <a:custGeom>
              <a:avLst/>
              <a:gdLst/>
              <a:ahLst/>
              <a:rect l="l" t="t" r="r" b="b"/>
              <a:pathLst>
                <a:path w="258" h="1124">
                  <a:moveTo>
                    <a:pt x="258" y="1124"/>
                  </a:moveTo>
                  <a:lnTo>
                    <a:pt x="0" y="0"/>
                  </a:lnTo>
                  <a:lnTo>
                    <a:pt x="1" y="1124"/>
                  </a:lnTo>
                  <a:lnTo>
                    <a:pt x="258" y="1124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Freeform 61"/>
            <p:cNvSpPr/>
            <p:nvPr/>
          </p:nvSpPr>
          <p:spPr>
            <a:xfrm rot="2343600">
              <a:off x="6130440" y="5610240"/>
              <a:ext cx="1517760" cy="595440"/>
            </a:xfrm>
            <a:custGeom>
              <a:avLst/>
              <a:gdLst/>
              <a:ahLst/>
              <a:rect l="l" t="t" r="r" b="b"/>
              <a:pathLst>
                <a:path w="1912" h="750">
                  <a:moveTo>
                    <a:pt x="1912" y="265"/>
                  </a:moveTo>
                  <a:lnTo>
                    <a:pt x="1106" y="263"/>
                  </a:lnTo>
                  <a:lnTo>
                    <a:pt x="1106" y="0"/>
                  </a:lnTo>
                  <a:lnTo>
                    <a:pt x="989" y="0"/>
                  </a:lnTo>
                  <a:lnTo>
                    <a:pt x="989" y="264"/>
                  </a:lnTo>
                  <a:lnTo>
                    <a:pt x="919" y="264"/>
                  </a:lnTo>
                  <a:lnTo>
                    <a:pt x="919" y="0"/>
                  </a:lnTo>
                  <a:lnTo>
                    <a:pt x="803" y="0"/>
                  </a:lnTo>
                  <a:lnTo>
                    <a:pt x="803" y="263"/>
                  </a:lnTo>
                  <a:lnTo>
                    <a:pt x="0" y="259"/>
                  </a:lnTo>
                  <a:lnTo>
                    <a:pt x="0" y="339"/>
                  </a:lnTo>
                  <a:lnTo>
                    <a:pt x="1334" y="338"/>
                  </a:lnTo>
                  <a:lnTo>
                    <a:pt x="1334" y="407"/>
                  </a:lnTo>
                  <a:lnTo>
                    <a:pt x="415" y="407"/>
                  </a:lnTo>
                  <a:lnTo>
                    <a:pt x="415" y="487"/>
                  </a:lnTo>
                  <a:lnTo>
                    <a:pt x="921" y="487"/>
                  </a:lnTo>
                  <a:lnTo>
                    <a:pt x="1383" y="750"/>
                  </a:lnTo>
                  <a:lnTo>
                    <a:pt x="1399" y="724"/>
                  </a:lnTo>
                  <a:lnTo>
                    <a:pt x="1415" y="696"/>
                  </a:lnTo>
                  <a:lnTo>
                    <a:pt x="1434" y="669"/>
                  </a:lnTo>
                  <a:lnTo>
                    <a:pt x="1452" y="644"/>
                  </a:lnTo>
                  <a:lnTo>
                    <a:pt x="1471" y="619"/>
                  </a:lnTo>
                  <a:lnTo>
                    <a:pt x="1491" y="593"/>
                  </a:lnTo>
                  <a:lnTo>
                    <a:pt x="1512" y="569"/>
                  </a:lnTo>
                  <a:lnTo>
                    <a:pt x="1533" y="545"/>
                  </a:lnTo>
                  <a:lnTo>
                    <a:pt x="1590" y="486"/>
                  </a:lnTo>
                  <a:lnTo>
                    <a:pt x="1605" y="474"/>
                  </a:lnTo>
                  <a:lnTo>
                    <a:pt x="1622" y="460"/>
                  </a:lnTo>
                  <a:lnTo>
                    <a:pt x="1639" y="445"/>
                  </a:lnTo>
                  <a:lnTo>
                    <a:pt x="1658" y="430"/>
                  </a:lnTo>
                  <a:lnTo>
                    <a:pt x="1679" y="415"/>
                  </a:lnTo>
                  <a:lnTo>
                    <a:pt x="1700" y="399"/>
                  </a:lnTo>
                  <a:lnTo>
                    <a:pt x="1723" y="384"/>
                  </a:lnTo>
                  <a:lnTo>
                    <a:pt x="1745" y="368"/>
                  </a:lnTo>
                  <a:lnTo>
                    <a:pt x="1768" y="353"/>
                  </a:lnTo>
                  <a:lnTo>
                    <a:pt x="1791" y="338"/>
                  </a:lnTo>
                  <a:lnTo>
                    <a:pt x="1813" y="323"/>
                  </a:lnTo>
                  <a:lnTo>
                    <a:pt x="1835" y="309"/>
                  </a:lnTo>
                  <a:lnTo>
                    <a:pt x="1855" y="296"/>
                  </a:lnTo>
                  <a:lnTo>
                    <a:pt x="1876" y="285"/>
                  </a:lnTo>
                  <a:lnTo>
                    <a:pt x="1895" y="274"/>
                  </a:lnTo>
                  <a:lnTo>
                    <a:pt x="1912" y="265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6 0.06544 L -0.09879 0.38012 E">
                                      <p:cBhvr>
                                        <p:cTn id="688" dur="2000" fill="hold"/>
                                        <p:tgtEl>
                                          <p:spTgt spid="9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59 0.06337 L -0.07604 0.54602 E">
                                      <p:cBhvr>
                                        <p:cTn id="692" dur="2000" fill="hold"/>
                                        <p:tgtEl>
                                          <p:spTgt spid="9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0.06267 L -0.17604 0.65009 E">
                                      <p:cBhvr>
                                        <p:cTn id="696" dur="2000" fill="hold"/>
                                        <p:tgtEl>
                                          <p:spTgt spid="9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5 0.07401 L -0.1552 0.49353 E">
                                      <p:cBhvr>
                                        <p:cTn id="700" dur="2000" fill="hold"/>
                                        <p:tgtEl>
                                          <p:spTgt spid="9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5 0.0703 L 0.21041 0.61586 E">
                                      <p:cBhvr>
                                        <p:cTn id="704" dur="2000" fill="hold"/>
                                        <p:tgtEl>
                                          <p:spTgt spid="9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5 0.0599 L 0.21024 0.79418 E">
                                      <p:cBhvr>
                                        <p:cTn id="708" dur="2000" fill="hold"/>
                                        <p:tgtEl>
                                          <p:spTgt spid="9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73 0.0599 L 0.05295 0.4482 E">
                                      <p:cBhvr>
                                        <p:cTn id="712" dur="2000" fill="hold"/>
                                        <p:tgtEl>
                                          <p:spTgt spid="9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599 L 0.10018 0.58442 E">
                                      <p:cBhvr>
                                        <p:cTn id="716" dur="2000" fill="hold"/>
                                        <p:tgtEl>
                                          <p:spTgt spid="9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703 L -0.02586 0.38506 E">
                                      <p:cBhvr>
                                        <p:cTn id="720" dur="2000" fill="hold"/>
                                        <p:tgtEl>
                                          <p:spTgt spid="9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NA01441_"/>
          <p:cNvPicPr/>
          <p:nvPr/>
        </p:nvPicPr>
        <p:blipFill>
          <a:blip r:embed="rId1"/>
          <a:stretch/>
        </p:blipFill>
        <p:spPr>
          <a:xfrm>
            <a:off x="217440" y="0"/>
            <a:ext cx="8751960" cy="6858000"/>
          </a:xfrm>
          <a:prstGeom prst="rect">
            <a:avLst/>
          </a:prstGeom>
          <a:ln w="0">
            <a:noFill/>
          </a:ln>
        </p:spPr>
      </p:pic>
      <p:sp>
        <p:nvSpPr>
          <p:cNvPr id="1031" name="Oval 3"/>
          <p:cNvSpPr/>
          <p:nvPr/>
        </p:nvSpPr>
        <p:spPr>
          <a:xfrm>
            <a:off x="1995480" y="2540160"/>
            <a:ext cx="993960" cy="892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4"/>
          <p:cNvSpPr/>
          <p:nvPr/>
        </p:nvSpPr>
        <p:spPr>
          <a:xfrm>
            <a:off x="2046240" y="1285920"/>
            <a:ext cx="1211400" cy="10652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隶书"/>
              </a:rPr>
              <a:t>b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5"/>
          <p:cNvSpPr/>
          <p:nvPr/>
        </p:nvSpPr>
        <p:spPr>
          <a:xfrm>
            <a:off x="2976480" y="225360"/>
            <a:ext cx="1138320" cy="993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宋体"/>
              </a:rPr>
              <a:t>f</a:t>
            </a:r>
            <a:r>
              <a:rPr b="1" lang="en-US" sz="6000" spc="-1" strike="noStrike">
                <a:solidFill>
                  <a:srgbClr val="ffff00"/>
                </a:solidFill>
                <a:latin typeface="宋体"/>
              </a:rPr>
              <a:t>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6"/>
          <p:cNvSpPr/>
          <p:nvPr/>
        </p:nvSpPr>
        <p:spPr>
          <a:xfrm>
            <a:off x="3751200" y="1660680"/>
            <a:ext cx="1038240" cy="936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m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7"/>
          <p:cNvSpPr/>
          <p:nvPr/>
        </p:nvSpPr>
        <p:spPr>
          <a:xfrm>
            <a:off x="5189400" y="189000"/>
            <a:ext cx="936720" cy="9064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b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8"/>
          <p:cNvSpPr/>
          <p:nvPr/>
        </p:nvSpPr>
        <p:spPr>
          <a:xfrm>
            <a:off x="4788000" y="1152360"/>
            <a:ext cx="936360" cy="951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9"/>
          <p:cNvSpPr/>
          <p:nvPr/>
        </p:nvSpPr>
        <p:spPr>
          <a:xfrm>
            <a:off x="5692680" y="1916280"/>
            <a:ext cx="1168560" cy="995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m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10"/>
          <p:cNvSpPr/>
          <p:nvPr/>
        </p:nvSpPr>
        <p:spPr>
          <a:xfrm>
            <a:off x="6588000" y="760320"/>
            <a:ext cx="1081080" cy="1054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  <a:ea typeface="楷体_GB2312"/>
              </a:rPr>
              <a:t>p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11"/>
          <p:cNvSpPr/>
          <p:nvPr/>
        </p:nvSpPr>
        <p:spPr>
          <a:xfrm>
            <a:off x="7091280" y="1989000"/>
            <a:ext cx="1141560" cy="12258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p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Group 12"/>
          <p:cNvGrpSpPr/>
          <p:nvPr/>
        </p:nvGrpSpPr>
        <p:grpSpPr>
          <a:xfrm>
            <a:off x="957240" y="4365720"/>
            <a:ext cx="2533680" cy="2539440"/>
            <a:chOff x="957240" y="4365720"/>
            <a:chExt cx="2533680" cy="2539440"/>
          </a:xfrm>
        </p:grpSpPr>
        <p:sp>
          <p:nvSpPr>
            <p:cNvPr id="1041" name="AutoShape 13"/>
            <p:cNvSpPr/>
            <p:nvPr/>
          </p:nvSpPr>
          <p:spPr>
            <a:xfrm rot="2343600">
              <a:off x="1331640" y="4723920"/>
              <a:ext cx="1784160" cy="18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 rot="2343600">
              <a:off x="1573200" y="4725720"/>
              <a:ext cx="1547640" cy="1140120"/>
            </a:xfrm>
            <a:custGeom>
              <a:avLst/>
              <a:gdLst/>
              <a:ahLst/>
              <a:rect l="l" t="t" r="r" b="b"/>
              <a:pathLst>
                <a:path w="1951" h="1435">
                  <a:moveTo>
                    <a:pt x="0" y="1434"/>
                  </a:moveTo>
                  <a:lnTo>
                    <a:pt x="716" y="1435"/>
                  </a:lnTo>
                  <a:lnTo>
                    <a:pt x="716" y="894"/>
                  </a:lnTo>
                  <a:lnTo>
                    <a:pt x="1329" y="894"/>
                  </a:lnTo>
                  <a:lnTo>
                    <a:pt x="1329" y="441"/>
                  </a:lnTo>
                  <a:lnTo>
                    <a:pt x="1471" y="441"/>
                  </a:lnTo>
                  <a:lnTo>
                    <a:pt x="1471" y="256"/>
                  </a:lnTo>
                  <a:lnTo>
                    <a:pt x="1812" y="256"/>
                  </a:lnTo>
                  <a:lnTo>
                    <a:pt x="1812" y="441"/>
                  </a:lnTo>
                  <a:lnTo>
                    <a:pt x="1951" y="441"/>
                  </a:lnTo>
                  <a:lnTo>
                    <a:pt x="1870" y="0"/>
                  </a:lnTo>
                  <a:lnTo>
                    <a:pt x="1853" y="1"/>
                  </a:lnTo>
                  <a:lnTo>
                    <a:pt x="1838" y="2"/>
                  </a:lnTo>
                  <a:lnTo>
                    <a:pt x="1825" y="3"/>
                  </a:lnTo>
                  <a:lnTo>
                    <a:pt x="1814" y="6"/>
                  </a:lnTo>
                  <a:lnTo>
                    <a:pt x="1805" y="7"/>
                  </a:lnTo>
                  <a:lnTo>
                    <a:pt x="1795" y="8"/>
                  </a:lnTo>
                  <a:lnTo>
                    <a:pt x="1787" y="10"/>
                  </a:lnTo>
                  <a:lnTo>
                    <a:pt x="1779" y="12"/>
                  </a:lnTo>
                  <a:lnTo>
                    <a:pt x="1737" y="21"/>
                  </a:lnTo>
                  <a:lnTo>
                    <a:pt x="1692" y="31"/>
                  </a:lnTo>
                  <a:lnTo>
                    <a:pt x="1645" y="44"/>
                  </a:lnTo>
                  <a:lnTo>
                    <a:pt x="1595" y="58"/>
                  </a:lnTo>
                  <a:lnTo>
                    <a:pt x="1546" y="73"/>
                  </a:lnTo>
                  <a:lnTo>
                    <a:pt x="1493" y="90"/>
                  </a:lnTo>
                  <a:lnTo>
                    <a:pt x="1440" y="109"/>
                  </a:lnTo>
                  <a:lnTo>
                    <a:pt x="1384" y="130"/>
                  </a:lnTo>
                  <a:lnTo>
                    <a:pt x="1329" y="153"/>
                  </a:lnTo>
                  <a:lnTo>
                    <a:pt x="1271" y="179"/>
                  </a:lnTo>
                  <a:lnTo>
                    <a:pt x="1214" y="205"/>
                  </a:lnTo>
                  <a:lnTo>
                    <a:pt x="1155" y="235"/>
                  </a:lnTo>
                  <a:lnTo>
                    <a:pt x="1095" y="267"/>
                  </a:lnTo>
                  <a:lnTo>
                    <a:pt x="1035" y="301"/>
                  </a:lnTo>
                  <a:lnTo>
                    <a:pt x="974" y="338"/>
                  </a:lnTo>
                  <a:lnTo>
                    <a:pt x="914" y="377"/>
                  </a:lnTo>
                  <a:lnTo>
                    <a:pt x="853" y="419"/>
                  </a:lnTo>
                  <a:lnTo>
                    <a:pt x="791" y="464"/>
                  </a:lnTo>
                  <a:lnTo>
                    <a:pt x="730" y="513"/>
                  </a:lnTo>
                  <a:lnTo>
                    <a:pt x="670" y="563"/>
                  </a:lnTo>
                  <a:lnTo>
                    <a:pt x="609" y="616"/>
                  </a:lnTo>
                  <a:lnTo>
                    <a:pt x="549" y="674"/>
                  </a:lnTo>
                  <a:lnTo>
                    <a:pt x="489" y="734"/>
                  </a:lnTo>
                  <a:lnTo>
                    <a:pt x="431" y="797"/>
                  </a:lnTo>
                  <a:lnTo>
                    <a:pt x="373" y="864"/>
                  </a:lnTo>
                  <a:lnTo>
                    <a:pt x="316" y="934"/>
                  </a:lnTo>
                  <a:lnTo>
                    <a:pt x="260" y="1008"/>
                  </a:lnTo>
                  <a:lnTo>
                    <a:pt x="205" y="1086"/>
                  </a:lnTo>
                  <a:lnTo>
                    <a:pt x="151" y="1167"/>
                  </a:lnTo>
                  <a:lnTo>
                    <a:pt x="99" y="1252"/>
                  </a:lnTo>
                  <a:lnTo>
                    <a:pt x="48" y="1341"/>
                  </a:lnTo>
                  <a:lnTo>
                    <a:pt x="0" y="1434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5"/>
            <p:cNvSpPr/>
            <p:nvPr/>
          </p:nvSpPr>
          <p:spPr>
            <a:xfrm rot="2343600">
              <a:off x="2078280" y="5993640"/>
              <a:ext cx="7308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6"/>
            <p:cNvSpPr/>
            <p:nvPr/>
          </p:nvSpPr>
          <p:spPr>
            <a:xfrm rot="2343600">
              <a:off x="1653840" y="5650560"/>
              <a:ext cx="763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"/>
            <p:cNvSpPr/>
            <p:nvPr/>
          </p:nvSpPr>
          <p:spPr>
            <a:xfrm rot="2343600">
              <a:off x="1529640" y="5549040"/>
              <a:ext cx="745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"/>
            <p:cNvSpPr/>
            <p:nvPr/>
          </p:nvSpPr>
          <p:spPr>
            <a:xfrm rot="2343600">
              <a:off x="1405080" y="5448240"/>
              <a:ext cx="7596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9"/>
            <p:cNvSpPr/>
            <p:nvPr/>
          </p:nvSpPr>
          <p:spPr>
            <a:xfrm rot="2343600">
              <a:off x="2207160" y="6099840"/>
              <a:ext cx="763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20"/>
            <p:cNvSpPr/>
            <p:nvPr/>
          </p:nvSpPr>
          <p:spPr>
            <a:xfrm rot="2343600">
              <a:off x="2338200" y="6205680"/>
              <a:ext cx="7596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21"/>
            <p:cNvSpPr/>
            <p:nvPr/>
          </p:nvSpPr>
          <p:spPr>
            <a:xfrm rot="2343600">
              <a:off x="2468520" y="577800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22"/>
            <p:cNvSpPr/>
            <p:nvPr/>
          </p:nvSpPr>
          <p:spPr>
            <a:xfrm rot="2343600">
              <a:off x="2599200" y="588384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23"/>
            <p:cNvSpPr/>
            <p:nvPr/>
          </p:nvSpPr>
          <p:spPr>
            <a:xfrm rot="2343600">
              <a:off x="2574720" y="564696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24"/>
            <p:cNvSpPr/>
            <p:nvPr/>
          </p:nvSpPr>
          <p:spPr>
            <a:xfrm rot="2343600">
              <a:off x="2705400" y="575280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25"/>
            <p:cNvSpPr/>
            <p:nvPr/>
          </p:nvSpPr>
          <p:spPr>
            <a:xfrm rot="2343600">
              <a:off x="2212200" y="556992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26"/>
            <p:cNvSpPr/>
            <p:nvPr/>
          </p:nvSpPr>
          <p:spPr>
            <a:xfrm rot="2343600">
              <a:off x="2342520" y="5675040"/>
              <a:ext cx="7488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27"/>
            <p:cNvSpPr/>
            <p:nvPr/>
          </p:nvSpPr>
          <p:spPr>
            <a:xfrm rot="2343600">
              <a:off x="2087640" y="546876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28"/>
            <p:cNvSpPr/>
            <p:nvPr/>
          </p:nvSpPr>
          <p:spPr>
            <a:xfrm rot="2343600">
              <a:off x="2369520" y="589968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29"/>
            <p:cNvSpPr/>
            <p:nvPr/>
          </p:nvSpPr>
          <p:spPr>
            <a:xfrm rot="2343600">
              <a:off x="2500200" y="600552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30"/>
            <p:cNvSpPr/>
            <p:nvPr/>
          </p:nvSpPr>
          <p:spPr>
            <a:xfrm rot="2343600">
              <a:off x="2113200" y="569196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Rectangle 31"/>
            <p:cNvSpPr/>
            <p:nvPr/>
          </p:nvSpPr>
          <p:spPr>
            <a:xfrm rot="2343600">
              <a:off x="2243880" y="5797080"/>
              <a:ext cx="7488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Rectangle 32"/>
            <p:cNvSpPr/>
            <p:nvPr/>
          </p:nvSpPr>
          <p:spPr>
            <a:xfrm rot="2343600">
              <a:off x="1988640" y="559044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Rectangle 33"/>
            <p:cNvSpPr/>
            <p:nvPr/>
          </p:nvSpPr>
          <p:spPr>
            <a:xfrm rot="2343600">
              <a:off x="2679840" y="5517720"/>
              <a:ext cx="76320" cy="7488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Rectangle 34"/>
            <p:cNvSpPr/>
            <p:nvPr/>
          </p:nvSpPr>
          <p:spPr>
            <a:xfrm rot="2343600">
              <a:off x="2810880" y="5623920"/>
              <a:ext cx="75960" cy="7488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5"/>
            <p:cNvSpPr/>
            <p:nvPr/>
          </p:nvSpPr>
          <p:spPr>
            <a:xfrm rot="2343600">
              <a:off x="2719440" y="5705640"/>
              <a:ext cx="204840" cy="892080"/>
            </a:xfrm>
            <a:custGeom>
              <a:avLst/>
              <a:gdLst/>
              <a:ahLst/>
              <a:rect l="l" t="t" r="r" b="b"/>
              <a:pathLst>
                <a:path w="258" h="1124">
                  <a:moveTo>
                    <a:pt x="258" y="1124"/>
                  </a:moveTo>
                  <a:lnTo>
                    <a:pt x="0" y="0"/>
                  </a:lnTo>
                  <a:lnTo>
                    <a:pt x="1" y="1124"/>
                  </a:lnTo>
                  <a:lnTo>
                    <a:pt x="258" y="1124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Freeform 36"/>
            <p:cNvSpPr/>
            <p:nvPr/>
          </p:nvSpPr>
          <p:spPr>
            <a:xfrm rot="2343600">
              <a:off x="1002960" y="5753160"/>
              <a:ext cx="1517760" cy="595440"/>
            </a:xfrm>
            <a:custGeom>
              <a:avLst/>
              <a:gdLst/>
              <a:ahLst/>
              <a:rect l="l" t="t" r="r" b="b"/>
              <a:pathLst>
                <a:path w="1912" h="750">
                  <a:moveTo>
                    <a:pt x="1912" y="265"/>
                  </a:moveTo>
                  <a:lnTo>
                    <a:pt x="1106" y="263"/>
                  </a:lnTo>
                  <a:lnTo>
                    <a:pt x="1106" y="0"/>
                  </a:lnTo>
                  <a:lnTo>
                    <a:pt x="989" y="0"/>
                  </a:lnTo>
                  <a:lnTo>
                    <a:pt x="989" y="264"/>
                  </a:lnTo>
                  <a:lnTo>
                    <a:pt x="919" y="264"/>
                  </a:lnTo>
                  <a:lnTo>
                    <a:pt x="919" y="0"/>
                  </a:lnTo>
                  <a:lnTo>
                    <a:pt x="803" y="0"/>
                  </a:lnTo>
                  <a:lnTo>
                    <a:pt x="803" y="263"/>
                  </a:lnTo>
                  <a:lnTo>
                    <a:pt x="0" y="259"/>
                  </a:lnTo>
                  <a:lnTo>
                    <a:pt x="0" y="339"/>
                  </a:lnTo>
                  <a:lnTo>
                    <a:pt x="1334" y="338"/>
                  </a:lnTo>
                  <a:lnTo>
                    <a:pt x="1334" y="407"/>
                  </a:lnTo>
                  <a:lnTo>
                    <a:pt x="415" y="407"/>
                  </a:lnTo>
                  <a:lnTo>
                    <a:pt x="415" y="487"/>
                  </a:lnTo>
                  <a:lnTo>
                    <a:pt x="921" y="487"/>
                  </a:lnTo>
                  <a:lnTo>
                    <a:pt x="1383" y="750"/>
                  </a:lnTo>
                  <a:lnTo>
                    <a:pt x="1399" y="724"/>
                  </a:lnTo>
                  <a:lnTo>
                    <a:pt x="1415" y="696"/>
                  </a:lnTo>
                  <a:lnTo>
                    <a:pt x="1434" y="669"/>
                  </a:lnTo>
                  <a:lnTo>
                    <a:pt x="1452" y="644"/>
                  </a:lnTo>
                  <a:lnTo>
                    <a:pt x="1471" y="619"/>
                  </a:lnTo>
                  <a:lnTo>
                    <a:pt x="1491" y="593"/>
                  </a:lnTo>
                  <a:lnTo>
                    <a:pt x="1512" y="569"/>
                  </a:lnTo>
                  <a:lnTo>
                    <a:pt x="1533" y="545"/>
                  </a:lnTo>
                  <a:lnTo>
                    <a:pt x="1590" y="486"/>
                  </a:lnTo>
                  <a:lnTo>
                    <a:pt x="1605" y="474"/>
                  </a:lnTo>
                  <a:lnTo>
                    <a:pt x="1622" y="460"/>
                  </a:lnTo>
                  <a:lnTo>
                    <a:pt x="1639" y="445"/>
                  </a:lnTo>
                  <a:lnTo>
                    <a:pt x="1658" y="430"/>
                  </a:lnTo>
                  <a:lnTo>
                    <a:pt x="1679" y="415"/>
                  </a:lnTo>
                  <a:lnTo>
                    <a:pt x="1700" y="399"/>
                  </a:lnTo>
                  <a:lnTo>
                    <a:pt x="1723" y="384"/>
                  </a:lnTo>
                  <a:lnTo>
                    <a:pt x="1745" y="368"/>
                  </a:lnTo>
                  <a:lnTo>
                    <a:pt x="1768" y="353"/>
                  </a:lnTo>
                  <a:lnTo>
                    <a:pt x="1791" y="338"/>
                  </a:lnTo>
                  <a:lnTo>
                    <a:pt x="1813" y="323"/>
                  </a:lnTo>
                  <a:lnTo>
                    <a:pt x="1835" y="309"/>
                  </a:lnTo>
                  <a:lnTo>
                    <a:pt x="1855" y="296"/>
                  </a:lnTo>
                  <a:lnTo>
                    <a:pt x="1876" y="285"/>
                  </a:lnTo>
                  <a:lnTo>
                    <a:pt x="1895" y="274"/>
                  </a:lnTo>
                  <a:lnTo>
                    <a:pt x="1912" y="265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Group 37"/>
          <p:cNvGrpSpPr/>
          <p:nvPr/>
        </p:nvGrpSpPr>
        <p:grpSpPr>
          <a:xfrm>
            <a:off x="6084720" y="4222800"/>
            <a:ext cx="2533680" cy="2539440"/>
            <a:chOff x="6084720" y="4222800"/>
            <a:chExt cx="2533680" cy="2539440"/>
          </a:xfrm>
        </p:grpSpPr>
        <p:sp>
          <p:nvSpPr>
            <p:cNvPr id="1066" name="AutoShape 38"/>
            <p:cNvSpPr/>
            <p:nvPr/>
          </p:nvSpPr>
          <p:spPr>
            <a:xfrm rot="2343600">
              <a:off x="6459120" y="4581000"/>
              <a:ext cx="1784160" cy="18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Freeform 39"/>
            <p:cNvSpPr/>
            <p:nvPr/>
          </p:nvSpPr>
          <p:spPr>
            <a:xfrm rot="2343600">
              <a:off x="6700680" y="4582800"/>
              <a:ext cx="1547640" cy="1140120"/>
            </a:xfrm>
            <a:custGeom>
              <a:avLst/>
              <a:gdLst/>
              <a:ahLst/>
              <a:rect l="l" t="t" r="r" b="b"/>
              <a:pathLst>
                <a:path w="1951" h="1435">
                  <a:moveTo>
                    <a:pt x="0" y="1434"/>
                  </a:moveTo>
                  <a:lnTo>
                    <a:pt x="716" y="1435"/>
                  </a:lnTo>
                  <a:lnTo>
                    <a:pt x="716" y="894"/>
                  </a:lnTo>
                  <a:lnTo>
                    <a:pt x="1329" y="894"/>
                  </a:lnTo>
                  <a:lnTo>
                    <a:pt x="1329" y="441"/>
                  </a:lnTo>
                  <a:lnTo>
                    <a:pt x="1471" y="441"/>
                  </a:lnTo>
                  <a:lnTo>
                    <a:pt x="1471" y="256"/>
                  </a:lnTo>
                  <a:lnTo>
                    <a:pt x="1812" y="256"/>
                  </a:lnTo>
                  <a:lnTo>
                    <a:pt x="1812" y="441"/>
                  </a:lnTo>
                  <a:lnTo>
                    <a:pt x="1951" y="441"/>
                  </a:lnTo>
                  <a:lnTo>
                    <a:pt x="1870" y="0"/>
                  </a:lnTo>
                  <a:lnTo>
                    <a:pt x="1853" y="1"/>
                  </a:lnTo>
                  <a:lnTo>
                    <a:pt x="1838" y="2"/>
                  </a:lnTo>
                  <a:lnTo>
                    <a:pt x="1825" y="3"/>
                  </a:lnTo>
                  <a:lnTo>
                    <a:pt x="1814" y="6"/>
                  </a:lnTo>
                  <a:lnTo>
                    <a:pt x="1805" y="7"/>
                  </a:lnTo>
                  <a:lnTo>
                    <a:pt x="1795" y="8"/>
                  </a:lnTo>
                  <a:lnTo>
                    <a:pt x="1787" y="10"/>
                  </a:lnTo>
                  <a:lnTo>
                    <a:pt x="1779" y="12"/>
                  </a:lnTo>
                  <a:lnTo>
                    <a:pt x="1737" y="21"/>
                  </a:lnTo>
                  <a:lnTo>
                    <a:pt x="1692" y="31"/>
                  </a:lnTo>
                  <a:lnTo>
                    <a:pt x="1645" y="44"/>
                  </a:lnTo>
                  <a:lnTo>
                    <a:pt x="1595" y="58"/>
                  </a:lnTo>
                  <a:lnTo>
                    <a:pt x="1546" y="73"/>
                  </a:lnTo>
                  <a:lnTo>
                    <a:pt x="1493" y="90"/>
                  </a:lnTo>
                  <a:lnTo>
                    <a:pt x="1440" y="109"/>
                  </a:lnTo>
                  <a:lnTo>
                    <a:pt x="1384" y="130"/>
                  </a:lnTo>
                  <a:lnTo>
                    <a:pt x="1329" y="153"/>
                  </a:lnTo>
                  <a:lnTo>
                    <a:pt x="1271" y="179"/>
                  </a:lnTo>
                  <a:lnTo>
                    <a:pt x="1214" y="205"/>
                  </a:lnTo>
                  <a:lnTo>
                    <a:pt x="1155" y="235"/>
                  </a:lnTo>
                  <a:lnTo>
                    <a:pt x="1095" y="267"/>
                  </a:lnTo>
                  <a:lnTo>
                    <a:pt x="1035" y="301"/>
                  </a:lnTo>
                  <a:lnTo>
                    <a:pt x="974" y="338"/>
                  </a:lnTo>
                  <a:lnTo>
                    <a:pt x="914" y="377"/>
                  </a:lnTo>
                  <a:lnTo>
                    <a:pt x="853" y="419"/>
                  </a:lnTo>
                  <a:lnTo>
                    <a:pt x="791" y="464"/>
                  </a:lnTo>
                  <a:lnTo>
                    <a:pt x="730" y="513"/>
                  </a:lnTo>
                  <a:lnTo>
                    <a:pt x="670" y="563"/>
                  </a:lnTo>
                  <a:lnTo>
                    <a:pt x="609" y="616"/>
                  </a:lnTo>
                  <a:lnTo>
                    <a:pt x="549" y="674"/>
                  </a:lnTo>
                  <a:lnTo>
                    <a:pt x="489" y="734"/>
                  </a:lnTo>
                  <a:lnTo>
                    <a:pt x="431" y="797"/>
                  </a:lnTo>
                  <a:lnTo>
                    <a:pt x="373" y="864"/>
                  </a:lnTo>
                  <a:lnTo>
                    <a:pt x="316" y="934"/>
                  </a:lnTo>
                  <a:lnTo>
                    <a:pt x="260" y="1008"/>
                  </a:lnTo>
                  <a:lnTo>
                    <a:pt x="205" y="1086"/>
                  </a:lnTo>
                  <a:lnTo>
                    <a:pt x="151" y="1167"/>
                  </a:lnTo>
                  <a:lnTo>
                    <a:pt x="99" y="1252"/>
                  </a:lnTo>
                  <a:lnTo>
                    <a:pt x="48" y="1341"/>
                  </a:lnTo>
                  <a:lnTo>
                    <a:pt x="0" y="1434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Rectangle 40"/>
            <p:cNvSpPr/>
            <p:nvPr/>
          </p:nvSpPr>
          <p:spPr>
            <a:xfrm rot="2343600">
              <a:off x="7205760" y="5850720"/>
              <a:ext cx="7308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Rectangle 41"/>
            <p:cNvSpPr/>
            <p:nvPr/>
          </p:nvSpPr>
          <p:spPr>
            <a:xfrm rot="2343600">
              <a:off x="6781320" y="5507640"/>
              <a:ext cx="763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Rectangle 42"/>
            <p:cNvSpPr/>
            <p:nvPr/>
          </p:nvSpPr>
          <p:spPr>
            <a:xfrm rot="2343600">
              <a:off x="6657120" y="5406120"/>
              <a:ext cx="745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43"/>
            <p:cNvSpPr/>
            <p:nvPr/>
          </p:nvSpPr>
          <p:spPr>
            <a:xfrm rot="2343600">
              <a:off x="6532560" y="5305320"/>
              <a:ext cx="7596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Rectangle 44"/>
            <p:cNvSpPr/>
            <p:nvPr/>
          </p:nvSpPr>
          <p:spPr>
            <a:xfrm rot="2343600">
              <a:off x="7334640" y="5956920"/>
              <a:ext cx="7632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Rectangle 45"/>
            <p:cNvSpPr/>
            <p:nvPr/>
          </p:nvSpPr>
          <p:spPr>
            <a:xfrm rot="2343600">
              <a:off x="7465680" y="6062760"/>
              <a:ext cx="75960" cy="7596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Rectangle 46"/>
            <p:cNvSpPr/>
            <p:nvPr/>
          </p:nvSpPr>
          <p:spPr>
            <a:xfrm rot="2343600">
              <a:off x="7596000" y="563508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Rectangle 47"/>
            <p:cNvSpPr/>
            <p:nvPr/>
          </p:nvSpPr>
          <p:spPr>
            <a:xfrm rot="2343600">
              <a:off x="7726680" y="574092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Rectangle 48"/>
            <p:cNvSpPr/>
            <p:nvPr/>
          </p:nvSpPr>
          <p:spPr>
            <a:xfrm rot="2343600">
              <a:off x="7702200" y="550404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Rectangle 49"/>
            <p:cNvSpPr/>
            <p:nvPr/>
          </p:nvSpPr>
          <p:spPr>
            <a:xfrm rot="2343600">
              <a:off x="7832880" y="560988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Rectangle 50"/>
            <p:cNvSpPr/>
            <p:nvPr/>
          </p:nvSpPr>
          <p:spPr>
            <a:xfrm rot="2343600">
              <a:off x="7339680" y="542700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Rectangle 51"/>
            <p:cNvSpPr/>
            <p:nvPr/>
          </p:nvSpPr>
          <p:spPr>
            <a:xfrm rot="2343600">
              <a:off x="7470000" y="5532120"/>
              <a:ext cx="7488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Rectangle 52"/>
            <p:cNvSpPr/>
            <p:nvPr/>
          </p:nvSpPr>
          <p:spPr>
            <a:xfrm rot="2343600">
              <a:off x="7215120" y="532584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Rectangle 53"/>
            <p:cNvSpPr/>
            <p:nvPr/>
          </p:nvSpPr>
          <p:spPr>
            <a:xfrm rot="2343600">
              <a:off x="7497000" y="575676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Rectangle 54"/>
            <p:cNvSpPr/>
            <p:nvPr/>
          </p:nvSpPr>
          <p:spPr>
            <a:xfrm rot="2343600">
              <a:off x="7627680" y="586260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Rectangle 55"/>
            <p:cNvSpPr/>
            <p:nvPr/>
          </p:nvSpPr>
          <p:spPr>
            <a:xfrm rot="2343600">
              <a:off x="7240680" y="5549040"/>
              <a:ext cx="7632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Rectangle 56"/>
            <p:cNvSpPr/>
            <p:nvPr/>
          </p:nvSpPr>
          <p:spPr>
            <a:xfrm rot="2343600">
              <a:off x="7371360" y="5654160"/>
              <a:ext cx="7488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Rectangle 57"/>
            <p:cNvSpPr/>
            <p:nvPr/>
          </p:nvSpPr>
          <p:spPr>
            <a:xfrm rot="2343600">
              <a:off x="7116120" y="5447520"/>
              <a:ext cx="75960" cy="7632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Rectangle 58"/>
            <p:cNvSpPr/>
            <p:nvPr/>
          </p:nvSpPr>
          <p:spPr>
            <a:xfrm rot="2343600">
              <a:off x="7807320" y="5374800"/>
              <a:ext cx="76320" cy="7488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Rectangle 59"/>
            <p:cNvSpPr/>
            <p:nvPr/>
          </p:nvSpPr>
          <p:spPr>
            <a:xfrm rot="2343600">
              <a:off x="7938360" y="5481000"/>
              <a:ext cx="75960" cy="74880"/>
            </a:xfrm>
            <a:prstGeom prst="rect">
              <a:avLst/>
            </a:pr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Freeform 60"/>
            <p:cNvSpPr/>
            <p:nvPr/>
          </p:nvSpPr>
          <p:spPr>
            <a:xfrm rot="2343600">
              <a:off x="7846920" y="5562720"/>
              <a:ext cx="204840" cy="892080"/>
            </a:xfrm>
            <a:custGeom>
              <a:avLst/>
              <a:gdLst/>
              <a:ahLst/>
              <a:rect l="l" t="t" r="r" b="b"/>
              <a:pathLst>
                <a:path w="258" h="1124">
                  <a:moveTo>
                    <a:pt x="258" y="1124"/>
                  </a:moveTo>
                  <a:lnTo>
                    <a:pt x="0" y="0"/>
                  </a:lnTo>
                  <a:lnTo>
                    <a:pt x="1" y="1124"/>
                  </a:lnTo>
                  <a:lnTo>
                    <a:pt x="258" y="1124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Freeform 61"/>
            <p:cNvSpPr/>
            <p:nvPr/>
          </p:nvSpPr>
          <p:spPr>
            <a:xfrm rot="2343600">
              <a:off x="6130440" y="5610240"/>
              <a:ext cx="1517760" cy="595440"/>
            </a:xfrm>
            <a:custGeom>
              <a:avLst/>
              <a:gdLst/>
              <a:ahLst/>
              <a:rect l="l" t="t" r="r" b="b"/>
              <a:pathLst>
                <a:path w="1912" h="750">
                  <a:moveTo>
                    <a:pt x="1912" y="265"/>
                  </a:moveTo>
                  <a:lnTo>
                    <a:pt x="1106" y="263"/>
                  </a:lnTo>
                  <a:lnTo>
                    <a:pt x="1106" y="0"/>
                  </a:lnTo>
                  <a:lnTo>
                    <a:pt x="989" y="0"/>
                  </a:lnTo>
                  <a:lnTo>
                    <a:pt x="989" y="264"/>
                  </a:lnTo>
                  <a:lnTo>
                    <a:pt x="919" y="264"/>
                  </a:lnTo>
                  <a:lnTo>
                    <a:pt x="919" y="0"/>
                  </a:lnTo>
                  <a:lnTo>
                    <a:pt x="803" y="0"/>
                  </a:lnTo>
                  <a:lnTo>
                    <a:pt x="803" y="263"/>
                  </a:lnTo>
                  <a:lnTo>
                    <a:pt x="0" y="259"/>
                  </a:lnTo>
                  <a:lnTo>
                    <a:pt x="0" y="339"/>
                  </a:lnTo>
                  <a:lnTo>
                    <a:pt x="1334" y="338"/>
                  </a:lnTo>
                  <a:lnTo>
                    <a:pt x="1334" y="407"/>
                  </a:lnTo>
                  <a:lnTo>
                    <a:pt x="415" y="407"/>
                  </a:lnTo>
                  <a:lnTo>
                    <a:pt x="415" y="487"/>
                  </a:lnTo>
                  <a:lnTo>
                    <a:pt x="921" y="487"/>
                  </a:lnTo>
                  <a:lnTo>
                    <a:pt x="1383" y="750"/>
                  </a:lnTo>
                  <a:lnTo>
                    <a:pt x="1399" y="724"/>
                  </a:lnTo>
                  <a:lnTo>
                    <a:pt x="1415" y="696"/>
                  </a:lnTo>
                  <a:lnTo>
                    <a:pt x="1434" y="669"/>
                  </a:lnTo>
                  <a:lnTo>
                    <a:pt x="1452" y="644"/>
                  </a:lnTo>
                  <a:lnTo>
                    <a:pt x="1471" y="619"/>
                  </a:lnTo>
                  <a:lnTo>
                    <a:pt x="1491" y="593"/>
                  </a:lnTo>
                  <a:lnTo>
                    <a:pt x="1512" y="569"/>
                  </a:lnTo>
                  <a:lnTo>
                    <a:pt x="1533" y="545"/>
                  </a:lnTo>
                  <a:lnTo>
                    <a:pt x="1590" y="486"/>
                  </a:lnTo>
                  <a:lnTo>
                    <a:pt x="1605" y="474"/>
                  </a:lnTo>
                  <a:lnTo>
                    <a:pt x="1622" y="460"/>
                  </a:lnTo>
                  <a:lnTo>
                    <a:pt x="1639" y="445"/>
                  </a:lnTo>
                  <a:lnTo>
                    <a:pt x="1658" y="430"/>
                  </a:lnTo>
                  <a:lnTo>
                    <a:pt x="1679" y="415"/>
                  </a:lnTo>
                  <a:lnTo>
                    <a:pt x="1700" y="399"/>
                  </a:lnTo>
                  <a:lnTo>
                    <a:pt x="1723" y="384"/>
                  </a:lnTo>
                  <a:lnTo>
                    <a:pt x="1745" y="368"/>
                  </a:lnTo>
                  <a:lnTo>
                    <a:pt x="1768" y="353"/>
                  </a:lnTo>
                  <a:lnTo>
                    <a:pt x="1791" y="338"/>
                  </a:lnTo>
                  <a:lnTo>
                    <a:pt x="1813" y="323"/>
                  </a:lnTo>
                  <a:lnTo>
                    <a:pt x="1835" y="309"/>
                  </a:lnTo>
                  <a:lnTo>
                    <a:pt x="1855" y="296"/>
                  </a:lnTo>
                  <a:lnTo>
                    <a:pt x="1876" y="285"/>
                  </a:lnTo>
                  <a:lnTo>
                    <a:pt x="1895" y="274"/>
                  </a:lnTo>
                  <a:lnTo>
                    <a:pt x="1912" y="265"/>
                  </a:lnTo>
                  <a:close/>
                </a:path>
              </a:pathLst>
            </a:custGeom>
            <a:solidFill>
              <a:srgbClr val="21e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6 0.06544 L -0.09879 0.38012 E">
                                      <p:cBhvr>
                                        <p:cTn id="726" dur="2000" fill="hold"/>
                                        <p:tgtEl>
                                          <p:spTgt spid="10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59 0.06337 L -0.07604 0.54602 E">
                                      <p:cBhvr>
                                        <p:cTn id="730" dur="2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0.06267 L -0.17604 0.65009 E">
                                      <p:cBhvr>
                                        <p:cTn id="734" dur="20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5 0.07401 L -0.1552 0.49353 E">
                                      <p:cBhvr>
                                        <p:cTn id="738" dur="2000" fill="hold"/>
                                        <p:tgtEl>
                                          <p:spTgt spid="10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5 0.0703 L 0.21041 0.61586 E">
                                      <p:cBhvr>
                                        <p:cTn id="742" dur="2000" fill="hold"/>
                                        <p:tgtEl>
                                          <p:spTgt spid="10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5 0.0599 L 0.21024 0.79418 E">
                                      <p:cBhvr>
                                        <p:cTn id="746" dur="20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73 0.0599 L 0.05295 0.4482 E">
                                      <p:cBhvr>
                                        <p:cTn id="750" dur="2000" fill="hold"/>
                                        <p:tgtEl>
                                          <p:spTgt spid="10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599 L 0.10018 0.58442 E">
                                      <p:cBhvr>
                                        <p:cTn id="754" dur="2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703 L -0.02586 0.38506 E">
                                      <p:cBhvr>
                                        <p:cTn id="758" dur="2000" fill="hold"/>
                                        <p:tgtEl>
                                          <p:spTgt spid="10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"/>
          <p:cNvGrpSpPr/>
          <p:nvPr/>
        </p:nvGrpSpPr>
        <p:grpSpPr>
          <a:xfrm>
            <a:off x="900000" y="1201680"/>
            <a:ext cx="7632720" cy="360"/>
            <a:chOff x="900000" y="1201680"/>
            <a:chExt cx="7632720" cy="360"/>
          </a:xfrm>
        </p:grpSpPr>
        <p:sp>
          <p:nvSpPr>
            <p:cNvPr id="1091" name="Line 5"/>
            <p:cNvSpPr/>
            <p:nvPr/>
          </p:nvSpPr>
          <p:spPr>
            <a:xfrm>
              <a:off x="900000" y="1201680"/>
              <a:ext cx="763272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 txBox="1"/>
            <p:nvPr/>
          </p:nvSpPr>
          <p:spPr>
            <a:xfrm>
              <a:off x="900000" y="1201680"/>
              <a:ext cx="76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939960" y="1481040"/>
            <a:ext cx="7632720" cy="360"/>
            <a:chOff x="939960" y="1481040"/>
            <a:chExt cx="7632720" cy="360"/>
          </a:xfrm>
        </p:grpSpPr>
        <p:sp>
          <p:nvSpPr>
            <p:cNvPr id="1094" name="Line 6"/>
            <p:cNvSpPr/>
            <p:nvPr/>
          </p:nvSpPr>
          <p:spPr>
            <a:xfrm>
              <a:off x="939960" y="1481040"/>
              <a:ext cx="763272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 txBox="1"/>
            <p:nvPr/>
          </p:nvSpPr>
          <p:spPr>
            <a:xfrm>
              <a:off x="939960" y="1481040"/>
              <a:ext cx="76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957240" y="3130560"/>
            <a:ext cx="7632720" cy="360"/>
            <a:chOff x="957240" y="3130560"/>
            <a:chExt cx="7632720" cy="360"/>
          </a:xfrm>
        </p:grpSpPr>
        <p:sp>
          <p:nvSpPr>
            <p:cNvPr id="1097" name="Line 7"/>
            <p:cNvSpPr/>
            <p:nvPr/>
          </p:nvSpPr>
          <p:spPr>
            <a:xfrm>
              <a:off x="957240" y="3130560"/>
              <a:ext cx="7632720" cy="0"/>
            </a:xfrm>
            <a:prstGeom prst="line">
              <a:avLst/>
            </a:prstGeom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 txBox="1"/>
            <p:nvPr/>
          </p:nvSpPr>
          <p:spPr>
            <a:xfrm>
              <a:off x="957240" y="3130560"/>
              <a:ext cx="76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987480" y="3413160"/>
            <a:ext cx="7632720" cy="360"/>
            <a:chOff x="987480" y="3413160"/>
            <a:chExt cx="7632720" cy="360"/>
          </a:xfrm>
        </p:grpSpPr>
        <p:sp>
          <p:nvSpPr>
            <p:cNvPr id="1100" name="Line 8"/>
            <p:cNvSpPr/>
            <p:nvPr/>
          </p:nvSpPr>
          <p:spPr>
            <a:xfrm>
              <a:off x="987480" y="3413160"/>
              <a:ext cx="7632720" cy="0"/>
            </a:xfrm>
            <a:prstGeom prst="line">
              <a:avLst/>
            </a:prstGeom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 txBox="1"/>
            <p:nvPr/>
          </p:nvSpPr>
          <p:spPr>
            <a:xfrm>
              <a:off x="987480" y="3413160"/>
              <a:ext cx="76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988920" y="3751200"/>
            <a:ext cx="7632720" cy="360"/>
            <a:chOff x="988920" y="3751200"/>
            <a:chExt cx="7632720" cy="360"/>
          </a:xfrm>
        </p:grpSpPr>
        <p:sp>
          <p:nvSpPr>
            <p:cNvPr id="1103" name="Line 9"/>
            <p:cNvSpPr/>
            <p:nvPr/>
          </p:nvSpPr>
          <p:spPr>
            <a:xfrm>
              <a:off x="988920" y="3751200"/>
              <a:ext cx="7632720" cy="0"/>
            </a:xfrm>
            <a:prstGeom prst="line">
              <a:avLst/>
            </a:prstGeom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 txBox="1"/>
            <p:nvPr/>
          </p:nvSpPr>
          <p:spPr>
            <a:xfrm>
              <a:off x="988920" y="3751200"/>
              <a:ext cx="76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976320" y="4035600"/>
            <a:ext cx="7632720" cy="360"/>
            <a:chOff x="976320" y="4035600"/>
            <a:chExt cx="7632720" cy="360"/>
          </a:xfrm>
        </p:grpSpPr>
        <p:sp>
          <p:nvSpPr>
            <p:cNvPr id="1106" name="Line 10"/>
            <p:cNvSpPr/>
            <p:nvPr/>
          </p:nvSpPr>
          <p:spPr>
            <a:xfrm>
              <a:off x="976320" y="4035600"/>
              <a:ext cx="7632720" cy="0"/>
            </a:xfrm>
            <a:prstGeom prst="line">
              <a:avLst/>
            </a:prstGeom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 txBox="1"/>
            <p:nvPr/>
          </p:nvSpPr>
          <p:spPr>
            <a:xfrm>
              <a:off x="976320" y="4035600"/>
              <a:ext cx="76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947880" y="1779480"/>
            <a:ext cx="7632720" cy="360"/>
            <a:chOff x="947880" y="1779480"/>
            <a:chExt cx="7632720" cy="360"/>
          </a:xfrm>
        </p:grpSpPr>
        <p:sp>
          <p:nvSpPr>
            <p:cNvPr id="1109" name="Line 11"/>
            <p:cNvSpPr/>
            <p:nvPr/>
          </p:nvSpPr>
          <p:spPr>
            <a:xfrm>
              <a:off x="947880" y="1779480"/>
              <a:ext cx="763272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 txBox="1"/>
            <p:nvPr/>
          </p:nvSpPr>
          <p:spPr>
            <a:xfrm>
              <a:off x="947880" y="1779480"/>
              <a:ext cx="76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979560" y="2065320"/>
            <a:ext cx="7632720" cy="360"/>
            <a:chOff x="979560" y="2065320"/>
            <a:chExt cx="7632720" cy="360"/>
          </a:xfrm>
        </p:grpSpPr>
        <p:sp>
          <p:nvSpPr>
            <p:cNvPr id="1112" name="Line 12"/>
            <p:cNvSpPr/>
            <p:nvPr/>
          </p:nvSpPr>
          <p:spPr>
            <a:xfrm>
              <a:off x="979560" y="2065320"/>
              <a:ext cx="763272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 txBox="1"/>
            <p:nvPr/>
          </p:nvSpPr>
          <p:spPr>
            <a:xfrm>
              <a:off x="979560" y="2065320"/>
              <a:ext cx="76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1047600" y="5078520"/>
            <a:ext cx="7632720" cy="360"/>
            <a:chOff x="1047600" y="5078520"/>
            <a:chExt cx="7632720" cy="360"/>
          </a:xfrm>
        </p:grpSpPr>
        <p:sp>
          <p:nvSpPr>
            <p:cNvPr id="1115" name="Line 13"/>
            <p:cNvSpPr/>
            <p:nvPr/>
          </p:nvSpPr>
          <p:spPr>
            <a:xfrm>
              <a:off x="1047600" y="5078520"/>
              <a:ext cx="7632720" cy="0"/>
            </a:xfrm>
            <a:prstGeom prst="line">
              <a:avLst/>
            </a:prstGeom>
            <a:ln w="2844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 txBox="1"/>
            <p:nvPr/>
          </p:nvSpPr>
          <p:spPr>
            <a:xfrm>
              <a:off x="1047600" y="5078520"/>
              <a:ext cx="76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1068480" y="5391000"/>
            <a:ext cx="7632720" cy="360"/>
            <a:chOff x="1068480" y="5391000"/>
            <a:chExt cx="7632720" cy="360"/>
          </a:xfrm>
        </p:grpSpPr>
        <p:sp>
          <p:nvSpPr>
            <p:cNvPr id="1118" name="Line 14"/>
            <p:cNvSpPr/>
            <p:nvPr/>
          </p:nvSpPr>
          <p:spPr>
            <a:xfrm>
              <a:off x="1068480" y="5391000"/>
              <a:ext cx="7632720" cy="0"/>
            </a:xfrm>
            <a:prstGeom prst="line">
              <a:avLst/>
            </a:prstGeom>
            <a:ln w="2844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 txBox="1"/>
            <p:nvPr/>
          </p:nvSpPr>
          <p:spPr>
            <a:xfrm>
              <a:off x="1068480" y="5391000"/>
              <a:ext cx="76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984240" y="5729400"/>
            <a:ext cx="7632720" cy="360"/>
            <a:chOff x="984240" y="5729400"/>
            <a:chExt cx="7632720" cy="360"/>
          </a:xfrm>
        </p:grpSpPr>
        <p:sp>
          <p:nvSpPr>
            <p:cNvPr id="1121" name="Line 15"/>
            <p:cNvSpPr/>
            <p:nvPr/>
          </p:nvSpPr>
          <p:spPr>
            <a:xfrm>
              <a:off x="984240" y="5729400"/>
              <a:ext cx="7632720" cy="0"/>
            </a:xfrm>
            <a:prstGeom prst="line">
              <a:avLst/>
            </a:prstGeom>
            <a:ln w="2844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 txBox="1"/>
            <p:nvPr/>
          </p:nvSpPr>
          <p:spPr>
            <a:xfrm>
              <a:off x="984240" y="5729400"/>
              <a:ext cx="76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977760" y="6014880"/>
            <a:ext cx="7632720" cy="360"/>
            <a:chOff x="977760" y="6014880"/>
            <a:chExt cx="7632720" cy="360"/>
          </a:xfrm>
        </p:grpSpPr>
        <p:sp>
          <p:nvSpPr>
            <p:cNvPr id="1124" name="Line 16"/>
            <p:cNvSpPr/>
            <p:nvPr/>
          </p:nvSpPr>
          <p:spPr>
            <a:xfrm>
              <a:off x="977760" y="6014880"/>
              <a:ext cx="7632720" cy="0"/>
            </a:xfrm>
            <a:prstGeom prst="line">
              <a:avLst/>
            </a:prstGeom>
            <a:ln w="2844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 txBox="1"/>
            <p:nvPr/>
          </p:nvSpPr>
          <p:spPr>
            <a:xfrm>
              <a:off x="977760" y="6014880"/>
              <a:ext cx="76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6" name="Rectangle 18"/>
          <p:cNvSpPr/>
          <p:nvPr/>
        </p:nvSpPr>
        <p:spPr>
          <a:xfrm>
            <a:off x="914040" y="1066680"/>
            <a:ext cx="95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cc0000"/>
                </a:solidFill>
                <a:latin typeface="宋体"/>
              </a:rPr>
              <a:t>bǎ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19"/>
          <p:cNvSpPr/>
          <p:nvPr/>
        </p:nvSpPr>
        <p:spPr>
          <a:xfrm>
            <a:off x="1976040" y="1058760"/>
            <a:ext cx="95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cc0000"/>
                </a:solidFill>
                <a:latin typeface="宋体"/>
              </a:rPr>
              <a:t>pà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20"/>
          <p:cNvSpPr/>
          <p:nvPr/>
        </p:nvSpPr>
        <p:spPr>
          <a:xfrm>
            <a:off x="2989080" y="1060560"/>
            <a:ext cx="968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cc0000"/>
                </a:solidFill>
                <a:latin typeface="宋体"/>
              </a:rPr>
              <a:t>mǐ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21"/>
          <p:cNvSpPr/>
          <p:nvPr/>
        </p:nvSpPr>
        <p:spPr>
          <a:xfrm>
            <a:off x="4115880" y="1084320"/>
            <a:ext cx="807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cc0000"/>
                </a:solidFill>
                <a:latin typeface="宋体"/>
              </a:rPr>
              <a:t>fó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22"/>
          <p:cNvSpPr/>
          <p:nvPr/>
        </p:nvSpPr>
        <p:spPr>
          <a:xfrm>
            <a:off x="4957920" y="1084320"/>
            <a:ext cx="1217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cc0000"/>
                </a:solidFill>
                <a:latin typeface="宋体"/>
              </a:rPr>
              <a:t>bō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23"/>
          <p:cNvSpPr/>
          <p:nvPr/>
        </p:nvSpPr>
        <p:spPr>
          <a:xfrm>
            <a:off x="6155640" y="1049400"/>
            <a:ext cx="756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cc0000"/>
                </a:solidFill>
                <a:latin typeface="宋体"/>
              </a:rPr>
              <a:t>bǐ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24"/>
          <p:cNvSpPr/>
          <p:nvPr/>
        </p:nvSpPr>
        <p:spPr>
          <a:xfrm>
            <a:off x="6848280" y="1062000"/>
            <a:ext cx="994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cc0000"/>
                </a:solidFill>
                <a:latin typeface="宋体"/>
              </a:rPr>
              <a:t>bù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25"/>
          <p:cNvSpPr/>
          <p:nvPr/>
        </p:nvSpPr>
        <p:spPr>
          <a:xfrm>
            <a:off x="7724520" y="1062000"/>
            <a:ext cx="985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cc0000"/>
                </a:solidFill>
                <a:latin typeface="宋体"/>
              </a:rPr>
              <a:t>pò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26"/>
          <p:cNvSpPr/>
          <p:nvPr/>
        </p:nvSpPr>
        <p:spPr>
          <a:xfrm>
            <a:off x="921600" y="3051000"/>
            <a:ext cx="756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宋体"/>
              </a:rPr>
              <a:t>pǐ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27"/>
          <p:cNvSpPr/>
          <p:nvPr/>
        </p:nvSpPr>
        <p:spPr>
          <a:xfrm>
            <a:off x="1744200" y="3052800"/>
            <a:ext cx="994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宋体"/>
              </a:rPr>
              <a:t>pú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28"/>
          <p:cNvSpPr/>
          <p:nvPr/>
        </p:nvSpPr>
        <p:spPr>
          <a:xfrm>
            <a:off x="2703600" y="3027240"/>
            <a:ext cx="116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宋体"/>
              </a:rPr>
              <a:t>mǎ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29"/>
          <p:cNvSpPr/>
          <p:nvPr/>
        </p:nvSpPr>
        <p:spPr>
          <a:xfrm>
            <a:off x="3895560" y="3014640"/>
            <a:ext cx="1197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宋体"/>
              </a:rPr>
              <a:t>mō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30"/>
          <p:cNvSpPr/>
          <p:nvPr/>
        </p:nvSpPr>
        <p:spPr>
          <a:xfrm>
            <a:off x="5732640" y="3027240"/>
            <a:ext cx="1206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宋体"/>
              </a:rPr>
              <a:t>mù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31"/>
          <p:cNvSpPr/>
          <p:nvPr/>
        </p:nvSpPr>
        <p:spPr>
          <a:xfrm>
            <a:off x="5229000" y="3040200"/>
            <a:ext cx="777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宋体"/>
              </a:rPr>
              <a:t>fǎ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32"/>
          <p:cNvSpPr/>
          <p:nvPr/>
        </p:nvSpPr>
        <p:spPr>
          <a:xfrm>
            <a:off x="7091280" y="3054240"/>
            <a:ext cx="816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宋体"/>
              </a:rPr>
              <a:t>fù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33"/>
          <p:cNvSpPr/>
          <p:nvPr/>
        </p:nvSpPr>
        <p:spPr>
          <a:xfrm>
            <a:off x="7799040" y="3040200"/>
            <a:ext cx="95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宋体"/>
              </a:rPr>
              <a:t>bá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34"/>
          <p:cNvSpPr/>
          <p:nvPr/>
        </p:nvSpPr>
        <p:spPr>
          <a:xfrm>
            <a:off x="2677680" y="5014800"/>
            <a:ext cx="95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8000"/>
                </a:solidFill>
                <a:latin typeface="宋体"/>
              </a:rPr>
              <a:t>pá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35"/>
          <p:cNvSpPr/>
          <p:nvPr/>
        </p:nvSpPr>
        <p:spPr>
          <a:xfrm>
            <a:off x="3611520" y="5003640"/>
            <a:ext cx="968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8000"/>
                </a:solidFill>
                <a:latin typeface="宋体"/>
              </a:rPr>
              <a:t>mī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36"/>
          <p:cNvSpPr/>
          <p:nvPr/>
        </p:nvSpPr>
        <p:spPr>
          <a:xfrm>
            <a:off x="5897160" y="5000760"/>
            <a:ext cx="985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8000"/>
                </a:solidFill>
                <a:latin typeface="宋体"/>
              </a:rPr>
              <a:t>bó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37"/>
          <p:cNvSpPr/>
          <p:nvPr/>
        </p:nvSpPr>
        <p:spPr>
          <a:xfrm>
            <a:off x="986760" y="5029200"/>
            <a:ext cx="756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8000"/>
                </a:solidFill>
                <a:latin typeface="宋体"/>
              </a:rPr>
              <a:t>bí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38"/>
          <p:cNvSpPr/>
          <p:nvPr/>
        </p:nvSpPr>
        <p:spPr>
          <a:xfrm>
            <a:off x="6872040" y="5013360"/>
            <a:ext cx="994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8000"/>
                </a:solidFill>
                <a:latin typeface="宋体"/>
              </a:rPr>
              <a:t>bǔ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39"/>
          <p:cNvSpPr/>
          <p:nvPr/>
        </p:nvSpPr>
        <p:spPr>
          <a:xfrm>
            <a:off x="4597560" y="5002200"/>
            <a:ext cx="116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8000"/>
                </a:solidFill>
                <a:latin typeface="宋体"/>
              </a:rPr>
              <a:t>mà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40"/>
          <p:cNvSpPr/>
          <p:nvPr/>
        </p:nvSpPr>
        <p:spPr>
          <a:xfrm>
            <a:off x="7927920" y="5003640"/>
            <a:ext cx="816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8000"/>
                </a:solidFill>
                <a:latin typeface="宋体"/>
              </a:rPr>
              <a:t>fú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41"/>
          <p:cNvSpPr/>
          <p:nvPr/>
        </p:nvSpPr>
        <p:spPr>
          <a:xfrm>
            <a:off x="1445400" y="5013360"/>
            <a:ext cx="1166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5200" spc="-1" strike="noStrike">
                <a:solidFill>
                  <a:srgbClr val="008000"/>
                </a:solidFill>
                <a:latin typeface="宋体"/>
              </a:rPr>
              <a:t>pǔ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5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0" dur="2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5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0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5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0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5" dur="2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0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5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0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5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0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5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0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5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0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5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0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5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0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5" dur="2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0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5" dur="2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0" dur="2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12" descr="T01C08~1"/>
          <p:cNvPicPr/>
          <p:nvPr/>
        </p:nvPicPr>
        <p:blipFill>
          <a:blip r:embed="rId1"/>
          <a:stretch/>
        </p:blipFill>
        <p:spPr>
          <a:xfrm>
            <a:off x="538200" y="3716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4" descr="211830~1"/>
          <p:cNvPicPr/>
          <p:nvPr/>
        </p:nvPicPr>
        <p:blipFill>
          <a:blip r:embed="rId2"/>
          <a:srcRect l="0" t="0" r="0" b="6352"/>
          <a:stretch/>
        </p:blipFill>
        <p:spPr>
          <a:xfrm>
            <a:off x="4840200" y="3973680"/>
            <a:ext cx="3716280" cy="23810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0" descr="278600~2"/>
          <p:cNvPicPr/>
          <p:nvPr/>
        </p:nvPicPr>
        <p:blipFill>
          <a:blip r:embed="rId3"/>
          <a:srcRect l="1549" t="2126" r="1591" b="8576"/>
          <a:stretch/>
        </p:blipFill>
        <p:spPr>
          <a:xfrm>
            <a:off x="2576520" y="0"/>
            <a:ext cx="3309840" cy="264636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5"/>
          <p:cNvSpPr/>
          <p:nvPr/>
        </p:nvSpPr>
        <p:spPr>
          <a:xfrm>
            <a:off x="5900760" y="380880"/>
            <a:ext cx="260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ō lu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omic Sans MS"/>
                <a:ea typeface="宋体"/>
              </a:rPr>
              <a:t>菠 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608040" y="2284560"/>
            <a:ext cx="312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ō c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Comic Sans MS"/>
                <a:ea typeface="宋体"/>
              </a:rPr>
              <a:t>菠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7"/>
          <p:cNvSpPr/>
          <p:nvPr/>
        </p:nvSpPr>
        <p:spPr>
          <a:xfrm>
            <a:off x="6777000" y="2414520"/>
            <a:ext cx="20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ō l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Comic Sans MS"/>
                <a:ea typeface="宋体"/>
              </a:rPr>
              <a:t>玻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WordArt 8"/>
          <p:cNvSpPr txBox="1"/>
          <p:nvPr/>
        </p:nvSpPr>
        <p:spPr>
          <a:xfrm>
            <a:off x="2484360" y="692280"/>
            <a:ext cx="3960720" cy="47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Comic Sans MS"/>
              </a:rPr>
              <a:t>b</a:t>
            </a:r>
            <a:endParaRPr b="0" lang="en-US" sz="96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12" descr="183023~1"/>
          <p:cNvPicPr/>
          <p:nvPr/>
        </p:nvPicPr>
        <p:blipFill>
          <a:blip r:embed="rId1"/>
          <a:srcRect l="6175" t="5347" r="64005" b="75876"/>
          <a:stretch/>
        </p:blipFill>
        <p:spPr>
          <a:xfrm>
            <a:off x="281160" y="1062000"/>
            <a:ext cx="4894200" cy="4657680"/>
          </a:xfrm>
          <a:prstGeom prst="rect">
            <a:avLst/>
          </a:prstGeom>
          <a:ln w="0">
            <a:noFill/>
          </a:ln>
        </p:spPr>
      </p:pic>
      <p:sp>
        <p:nvSpPr>
          <p:cNvPr id="588" name="WordArt 8"/>
          <p:cNvSpPr txBox="1"/>
          <p:nvPr/>
        </p:nvSpPr>
        <p:spPr>
          <a:xfrm>
            <a:off x="4603680" y="662040"/>
            <a:ext cx="396072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Comic Sans MS"/>
              </a:rPr>
              <a:t>b</a:t>
            </a:r>
            <a:endParaRPr b="0" lang="en-US" sz="96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89" name="WordArt 10"/>
          <p:cNvSpPr txBox="1"/>
          <p:nvPr/>
        </p:nvSpPr>
        <p:spPr>
          <a:xfrm>
            <a:off x="1011240" y="2017800"/>
            <a:ext cx="1204920" cy="17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Comic Sans MS"/>
              </a:rPr>
              <a:t>b</a:t>
            </a:r>
            <a:endParaRPr b="0" lang="en-US" sz="96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"/>
          <p:cNvGrpSpPr/>
          <p:nvPr/>
        </p:nvGrpSpPr>
        <p:grpSpPr>
          <a:xfrm>
            <a:off x="0" y="2278080"/>
            <a:ext cx="9144000" cy="360"/>
            <a:chOff x="0" y="2278080"/>
            <a:chExt cx="9144000" cy="360"/>
          </a:xfrm>
        </p:grpSpPr>
        <p:sp>
          <p:nvSpPr>
            <p:cNvPr id="591" name="Line 2"/>
            <p:cNvSpPr/>
            <p:nvPr/>
          </p:nvSpPr>
          <p:spPr>
            <a:xfrm>
              <a:off x="0" y="227808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 txBox="1"/>
            <p:nvPr/>
          </p:nvSpPr>
          <p:spPr>
            <a:xfrm>
              <a:off x="0" y="22780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0" y="4457880"/>
            <a:ext cx="9144000" cy="360"/>
            <a:chOff x="0" y="4457880"/>
            <a:chExt cx="9144000" cy="360"/>
          </a:xfrm>
        </p:grpSpPr>
        <p:sp>
          <p:nvSpPr>
            <p:cNvPr id="594" name="Line 3"/>
            <p:cNvSpPr/>
            <p:nvPr/>
          </p:nvSpPr>
          <p:spPr>
            <a:xfrm>
              <a:off x="0" y="445788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0" y="44578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0" y="458640"/>
            <a:ext cx="9144000" cy="360"/>
            <a:chOff x="0" y="458640"/>
            <a:chExt cx="9144000" cy="360"/>
          </a:xfrm>
        </p:grpSpPr>
        <p:sp>
          <p:nvSpPr>
            <p:cNvPr id="597" name="Line 4"/>
            <p:cNvSpPr/>
            <p:nvPr/>
          </p:nvSpPr>
          <p:spPr>
            <a:xfrm>
              <a:off x="0" y="45864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0" y="458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0" y="6494400"/>
            <a:ext cx="9144000" cy="360"/>
            <a:chOff x="0" y="6494400"/>
            <a:chExt cx="9144000" cy="360"/>
          </a:xfrm>
        </p:grpSpPr>
        <p:sp>
          <p:nvSpPr>
            <p:cNvPr id="600" name="Line 5"/>
            <p:cNvSpPr/>
            <p:nvPr/>
          </p:nvSpPr>
          <p:spPr>
            <a:xfrm>
              <a:off x="0" y="649440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>
              <a:off x="0" y="64944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WordArt 6"/>
          <p:cNvSpPr txBox="1"/>
          <p:nvPr/>
        </p:nvSpPr>
        <p:spPr>
          <a:xfrm>
            <a:off x="3708360" y="1208160"/>
            <a:ext cx="2309760" cy="32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b</a:t>
            </a:r>
            <a:endParaRPr b="0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2"/>
          <p:cNvGrpSpPr/>
          <p:nvPr/>
        </p:nvGrpSpPr>
        <p:grpSpPr>
          <a:xfrm>
            <a:off x="1189080" y="2421000"/>
            <a:ext cx="6767640" cy="1584360"/>
            <a:chOff x="1189080" y="2421000"/>
            <a:chExt cx="6767640" cy="1584360"/>
          </a:xfrm>
        </p:grpSpPr>
        <p:sp>
          <p:nvSpPr>
            <p:cNvPr id="604" name="WordArt 3"/>
            <p:cNvSpPr txBox="1"/>
            <p:nvPr/>
          </p:nvSpPr>
          <p:spPr>
            <a:xfrm>
              <a:off x="1189080" y="2492280"/>
              <a:ext cx="1008360" cy="15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6600"/>
                  </a:solidFill>
                  <a:latin typeface="Comic Sans MS"/>
                </a:rPr>
                <a:t>b</a:t>
              </a:r>
              <a:endParaRPr b="0" lang="en-US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  <a:ea typeface="Comic Sans MS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2486160" y="3429000"/>
              <a:ext cx="792360" cy="360"/>
              <a:chOff x="2486160" y="3429000"/>
              <a:chExt cx="792360" cy="360"/>
            </a:xfrm>
          </p:grpSpPr>
          <p:sp>
            <p:nvSpPr>
              <p:cNvPr id="606" name="Line 4"/>
              <p:cNvSpPr/>
              <p:nvPr/>
            </p:nvSpPr>
            <p:spPr>
              <a:xfrm>
                <a:off x="2486160" y="3429000"/>
                <a:ext cx="792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 txBox="1"/>
              <p:nvPr/>
            </p:nvSpPr>
            <p:spPr>
              <a:xfrm>
                <a:off x="2486160" y="3429000"/>
                <a:ext cx="792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WordArt 5"/>
            <p:cNvSpPr txBox="1"/>
            <p:nvPr/>
          </p:nvSpPr>
          <p:spPr>
            <a:xfrm>
              <a:off x="3638880" y="2997000"/>
              <a:ext cx="934920" cy="95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00"/>
                  </a:solidFill>
                  <a:latin typeface="Comic Sans MS"/>
                </a:rPr>
                <a:t>a</a:t>
              </a:r>
              <a:endParaRPr b="0" lang="en-US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00"/>
                </a:solidFill>
                <a:latin typeface="Comic Sans MS"/>
                <a:ea typeface="Comic Sans MS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4789800" y="3429000"/>
              <a:ext cx="936360" cy="360"/>
              <a:chOff x="4789800" y="3429000"/>
              <a:chExt cx="936360" cy="360"/>
            </a:xfrm>
          </p:grpSpPr>
          <p:sp>
            <p:nvSpPr>
              <p:cNvPr id="610" name="Line 6"/>
              <p:cNvSpPr/>
              <p:nvPr/>
            </p:nvSpPr>
            <p:spPr>
              <a:xfrm>
                <a:off x="4789800" y="3429000"/>
                <a:ext cx="936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 txBox="1"/>
              <p:nvPr/>
            </p:nvSpPr>
            <p:spPr>
              <a:xfrm>
                <a:off x="4789800" y="3429000"/>
                <a:ext cx="93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" name="WordArt 7"/>
            <p:cNvSpPr txBox="1"/>
            <p:nvPr/>
          </p:nvSpPr>
          <p:spPr>
            <a:xfrm>
              <a:off x="5870880" y="2421000"/>
              <a:ext cx="1008000" cy="15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ff"/>
                  </a:solidFill>
                  <a:latin typeface="Comic Sans MS"/>
                </a:rPr>
                <a:t>b</a:t>
              </a:r>
              <a:endParaRPr b="0" lang="en-US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13" name="WordArt 8"/>
            <p:cNvSpPr txBox="1"/>
            <p:nvPr/>
          </p:nvSpPr>
          <p:spPr>
            <a:xfrm>
              <a:off x="7021800" y="2976480"/>
              <a:ext cx="934920" cy="95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ff"/>
                  </a:solidFill>
                  <a:latin typeface="Comic Sans MS"/>
                </a:rPr>
                <a:t>a</a:t>
              </a:r>
              <a:endParaRPr b="0" lang="en-US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Comic Sans MS"/>
                <a:ea typeface="Comic Sans MS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FR20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3"/>
          <p:cNvSpPr/>
          <p:nvPr/>
        </p:nvSpPr>
        <p:spPr>
          <a:xfrm>
            <a:off x="1117440" y="230040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Comic Sans MS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3643200" y="103824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Comic Sans MS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3873600" y="19954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6"/>
          <p:cNvSpPr/>
          <p:nvPr/>
        </p:nvSpPr>
        <p:spPr>
          <a:xfrm>
            <a:off x="4232160" y="319716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cc"/>
                </a:solidFill>
                <a:latin typeface="Comic Sans MS"/>
              </a:rPr>
              <a:t>i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2790720" y="419112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Comic Sans MS"/>
              </a:rPr>
              <a:t>u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882800" y="1715760"/>
            <a:ext cx="1789200" cy="1292040"/>
            <a:chOff x="1882800" y="1715760"/>
            <a:chExt cx="1789200" cy="1292040"/>
          </a:xfrm>
        </p:grpSpPr>
        <p:sp>
          <p:nvSpPr>
            <p:cNvPr id="621" name="Line 8"/>
            <p:cNvSpPr/>
            <p:nvPr/>
          </p:nvSpPr>
          <p:spPr>
            <a:xfrm flipV="1">
              <a:off x="1882800" y="1715760"/>
              <a:ext cx="1789200" cy="1292040"/>
            </a:xfrm>
            <a:prstGeom prst="line">
              <a:avLst/>
            </a:prstGeom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 rot="10800000">
              <a:off x="1882800" y="1715760"/>
              <a:ext cx="1789200" cy="129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1922400" y="2684520"/>
            <a:ext cx="1967040" cy="349200"/>
            <a:chOff x="1922400" y="2684520"/>
            <a:chExt cx="1967040" cy="349200"/>
          </a:xfrm>
        </p:grpSpPr>
        <p:sp>
          <p:nvSpPr>
            <p:cNvPr id="624" name="Line 9"/>
            <p:cNvSpPr/>
            <p:nvPr/>
          </p:nvSpPr>
          <p:spPr>
            <a:xfrm flipV="1">
              <a:off x="1922400" y="2684520"/>
              <a:ext cx="1967040" cy="349200"/>
            </a:xfrm>
            <a:prstGeom prst="line">
              <a:avLst/>
            </a:prstGeom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 txBox="1"/>
            <p:nvPr/>
          </p:nvSpPr>
          <p:spPr>
            <a:xfrm rot="10800000">
              <a:off x="1922400" y="2684520"/>
              <a:ext cx="196704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1933560" y="3048120"/>
            <a:ext cx="2351160" cy="660240"/>
            <a:chOff x="1933560" y="3048120"/>
            <a:chExt cx="2351160" cy="660240"/>
          </a:xfrm>
        </p:grpSpPr>
        <p:sp>
          <p:nvSpPr>
            <p:cNvPr id="627" name="Line 10"/>
            <p:cNvSpPr/>
            <p:nvPr/>
          </p:nvSpPr>
          <p:spPr>
            <a:xfrm>
              <a:off x="1933560" y="3048120"/>
              <a:ext cx="2351160" cy="660240"/>
            </a:xfrm>
            <a:prstGeom prst="line">
              <a:avLst/>
            </a:prstGeom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 txBox="1"/>
            <p:nvPr/>
          </p:nvSpPr>
          <p:spPr>
            <a:xfrm>
              <a:off x="1933560" y="3048120"/>
              <a:ext cx="2351160" cy="66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905120" y="3030480"/>
            <a:ext cx="911160" cy="1698840"/>
            <a:chOff x="1905120" y="3030480"/>
            <a:chExt cx="911160" cy="1698840"/>
          </a:xfrm>
        </p:grpSpPr>
        <p:sp>
          <p:nvSpPr>
            <p:cNvPr id="630" name="Line 11"/>
            <p:cNvSpPr/>
            <p:nvPr/>
          </p:nvSpPr>
          <p:spPr>
            <a:xfrm>
              <a:off x="1905120" y="3030480"/>
              <a:ext cx="911160" cy="1698840"/>
            </a:xfrm>
            <a:prstGeom prst="line">
              <a:avLst/>
            </a:prstGeom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 txBox="1"/>
            <p:nvPr/>
          </p:nvSpPr>
          <p:spPr>
            <a:xfrm>
              <a:off x="1905120" y="3030480"/>
              <a:ext cx="911160" cy="169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Text Box 12"/>
          <p:cNvSpPr/>
          <p:nvPr/>
        </p:nvSpPr>
        <p:spPr>
          <a:xfrm>
            <a:off x="4629240" y="871560"/>
            <a:ext cx="163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8000"/>
                </a:solidFill>
                <a:latin typeface="Comic Sans MS"/>
              </a:rPr>
              <a:t>b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4619520" y="1938240"/>
            <a:ext cx="16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26200"/>
                </a:solidFill>
                <a:latin typeface="Comic Sans MS"/>
              </a:rPr>
              <a:t>b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4"/>
          <p:cNvSpPr/>
          <p:nvPr/>
        </p:nvSpPr>
        <p:spPr>
          <a:xfrm>
            <a:off x="4813200" y="3075120"/>
            <a:ext cx="16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00cc"/>
                </a:solidFill>
                <a:latin typeface="Comic Sans MS"/>
              </a:rPr>
              <a:t>bi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15"/>
          <p:cNvSpPr/>
          <p:nvPr/>
        </p:nvSpPr>
        <p:spPr>
          <a:xfrm>
            <a:off x="3548160" y="4119480"/>
            <a:ext cx="163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9d8ec"/>
                </a:solidFill>
                <a:latin typeface="Comic Sans MS"/>
              </a:rPr>
              <a:t>bu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FR2068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3"/>
          <p:cNvSpPr/>
          <p:nvPr/>
        </p:nvSpPr>
        <p:spPr>
          <a:xfrm>
            <a:off x="1347840" y="852480"/>
            <a:ext cx="4724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宋体"/>
              </a:rPr>
              <a:t>bā bá bǎ bà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宋体"/>
              </a:rPr>
              <a:t>bō bó bǒ bò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宋体"/>
              </a:rPr>
              <a:t>bī bí bǐ bì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宋体"/>
              </a:rPr>
              <a:t>bū bú bǔ bù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6320520" y="2177280"/>
            <a:ext cx="10947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99"/>
                </a:solidFill>
                <a:latin typeface="Times New Roman"/>
                <a:ea typeface="华文新魏"/>
              </a:rPr>
              <a:t>读一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20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20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20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2000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3:38:03Z</dcterms:created>
  <dc:creator/>
  <dc:description/>
  <dc:language>en-US</dc:language>
  <cp:lastModifiedBy>万润仪器贸易公司</cp:lastModifiedBy>
  <dcterms:modified xsi:type="dcterms:W3CDTF">2020-08-24T01:38:59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